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12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2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97E-F73E-4EE7-916C-0EF5A182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D1D-DB99-40D7-BE3A-F0E01E1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C586-A891-42BF-84AB-7FAC9F6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B8AF8-99B7-4B15-9486-BA1606ED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7E99C-CF59-4E11-BDF6-FDEACEC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C9E26-9167-49D1-8DAF-4B99B9FB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D563D-86D8-4ECE-912F-45BFF7E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D0994-131A-48BA-AD00-010DC40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77E82-47FF-4A86-A12A-1DA2660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D4D9-8F6B-40D9-8E16-58511472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05A6-B588-4B99-9C28-66879569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6AACE-FC84-4EC0-8456-04B2F024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F52-E73A-4FDD-B89E-1509F9C7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E912A-BE3F-4A96-80A7-17497C8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924D9-C2C0-4876-A20F-32A7303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AA7B9-C90D-47CD-B57A-8ADA78A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31E0-BC37-47CE-9164-EEF83477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3646A-43B1-40CD-82DA-D2217EE3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C28B1-90B7-4D14-895F-84D3BB1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95B7C-5623-420D-BC8F-3C9B196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91D6-E576-488D-B421-8BA87EE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BA44-1322-4D26-B353-B155BC5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2F272-789F-49FB-A918-B58E300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93B-C9DA-43AD-8BB4-F913F8EF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3962D-21FA-4639-BCC7-3A6C00C8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6891-A60D-4ABC-8D51-8905EAA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2CE1D-B046-4E0F-9E73-CDD0FE7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E5AD2-A8F8-4BA7-A00F-F366E5D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3A6F-42BD-40D9-A5C4-51BB66A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5477-400A-4C50-9C7D-F854A47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FED1-79CA-4675-9FD8-9B11B10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3B69E-EEB2-41AF-B60B-9C4BF2C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1F9ED-0774-4CE8-AFCD-4D36EB8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3207A-5DDC-40DC-9563-C325BDC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87F5-B19A-454B-906B-0E7DBB79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E02F-ACE6-40A0-81D5-F841925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8A625-C546-4DD0-AC3B-67B15A82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E968B-35F2-4A27-BF49-14D1C559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FDC74-6FCA-4AFF-BD17-71CA5B6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6C20-4668-4616-8B4B-8273883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88E4A-4700-4967-853F-B8B2979B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1E985-0AF5-41D3-9665-7848D3C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BC5A1-CE53-430C-A377-F7DDB2B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C90CB-65CF-4F0E-A15E-85CB84D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29DCB-AFCA-4A76-AC1E-DFFC6E3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710A-8CE3-4F22-9A07-A8258B17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2F50E-6928-4AD7-933F-CB20697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9300E-A138-4789-9C01-90161BD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B2A9-1046-42A9-9D29-F8154F3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72FCB-689D-4600-B7B1-42067AB8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68F02-8791-4D3C-BB6E-E1FC7558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91FFC-B761-4D99-AAAA-E764BDEB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A17DA-6E68-4BE2-A93D-0D514DA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82A20-1167-4FC5-8701-113BE47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796B0-3B9C-49AE-B445-0F60578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714E3-C57B-4721-88C2-A4418D7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A056-3842-46A8-BF25-73120041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914C6-0BCD-48B2-AADF-FEC00C14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85C4C-CEC2-4CD7-8A4C-699941ED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657C9-8EEC-489F-8F3C-BCF782E3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220E9-880A-4AED-8938-BD0BAF7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A3B08-58F5-4AF4-B374-AB54A4C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CAD84-A5EC-4099-B4B0-101B8682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197C1-2BBB-4EE0-89B5-97D81F6B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F5122-31FE-488C-9F7E-F23413F1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5A296-992F-4089-A3BA-87DBF8E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73400-8318-4492-9F84-47148794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AAD4-E8CF-4D96-B6CA-A3D4FB6B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1AEE7-6AA6-4190-8E56-FE4A0874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6231F-2792-41BF-B35E-D17EF4B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75FEA-9950-4F07-B30B-1B23EFC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DFF23-7E69-48A8-82BD-689A0DE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153BB-24AE-4AA0-A2F2-C78E648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A3268-AB81-4106-A41A-ED0F375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D1BBB-263B-495A-BD79-17CB8C2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DEF74-9EE9-4361-95D5-5DB27BE8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62F1B-9570-4508-A091-88BA34A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9D361-3AF3-460B-8C55-395034E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0FBC-9F44-47D8-BE9B-BB07D41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D018C-43F1-4792-8ADA-E451820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6736F-4C48-468A-A6A8-0EAC741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CCDA2-A0F1-4FC5-B4DD-D3B07E8A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A2BD3-C1FA-4795-AACC-5C434F40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ABCE5-E471-4BBC-B0DD-2BEE1E27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46A5F-BA2A-4D0B-BAE2-D7E76C0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0F3A5-6E84-44E0-9479-6638269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15A22-4255-4E02-81CE-C97A9B4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0189D-010D-4782-AF95-7A8366D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BEBB7-6671-4D54-8EEA-C0B9C82F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FB7B-84C3-4FBA-B458-4CC8C29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F954A-099D-47CA-8CA6-29AF2B2A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41E76-FFDF-45B0-80FA-11B6E26B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60161-B7A5-4785-A801-ACD80AB1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1030E-DB03-45EE-9B6F-6C4BE09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05161-0B45-4CC5-B344-A03FD9C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9AAA0-0556-4188-A270-C2EDAB0B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CD4F6-7701-4229-A3BF-5231923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A490A-942D-4011-9B53-666EE26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C18E7-2034-4F14-A706-A761808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47C75-2B2C-43E7-926C-877BCD3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DB24-5426-4C43-A85F-24CBB44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56124-2D8E-4955-A1B1-8E27919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C9686-66C6-4ACD-9A55-5BF28C3C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5A792-7678-4EA9-9A2A-1E3EB9A4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E9106-EF93-4E1B-BB87-59992F28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DF4CC-6996-4B0E-A8A3-9B51CEE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112F6-C9DB-4008-B863-C537A71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50773-D0EC-44E7-8F7D-8CF973F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4ACB8-3545-4B00-AF86-1992149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5C148-0932-4819-9187-2A6E769C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0A37E-37BC-4DA8-8B56-A87B927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2F4-862C-4F76-862C-5633052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2460-460E-4323-99C8-05C23A77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74774-12EA-41AE-813C-4266428F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7ED01-3BC9-4B4C-BB0B-21E3BC2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9D42B-9BDF-48BA-A065-9CBB43D1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46F5A-E382-42C1-9CF8-AC550A69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9B4B4-BF93-423B-8E13-20A7E9A8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30D8F-4FDB-4D69-AD37-7599F903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3EE43-17F3-4E11-A2FB-9C36A86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709E1-D00F-405E-97D7-0415508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DD084-6C48-4A5B-A62D-1CBF930D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AD0E2-7AA8-468A-B7CA-9129A99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DAC-BCB2-40B2-8C58-153E1A7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B5A84-1F71-4165-996A-1E6A482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4A7BA-04BD-4854-B774-1B6729B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FFBA4-BED9-4D0D-B6A1-A2C7354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18815-ADEA-464B-B3ED-2A2C130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3A4F8-F707-4247-B8B0-92EF118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89FE1-3CE1-4C63-8002-29C3BAC7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F4E78-3823-40D1-87AC-C9254E7B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192AD-FAAA-4E44-A5DF-47E35603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8726F-C908-4B79-A6DC-58689E2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FCB30-CB0E-42B2-BC17-B18B0886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A74E-3231-4E7F-AE7B-19EFFE0A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AE068-47DA-4B41-B5C8-67B32F72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2991E-DD74-4B72-B5D7-E2904917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3DB23-96DB-4ED8-8AF3-53CF8D6D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0BDFF-E5B5-4B12-B884-1B99A56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C77BA-AF3C-4FB5-8DE0-7D61DFE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09739-FB04-4089-954B-0B027D6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A2D1E-389A-4E07-8A8B-5530546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384C4-0DD7-4B10-86F2-2F19B08F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E09F5-A652-4454-9868-E2DF427F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63DBF-061B-41A6-A954-386C65DC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40A-230B-4246-8C64-ACA688E1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D989F4-F955-4121-A70B-0EA7F906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BC2F0-6C5D-45CD-852B-DB798CA5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052A3-3A0E-40FB-89C5-5F92D2E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94BF9-C434-4A97-84CC-12294A7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246F4-7D5D-43F4-A390-F5292FD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EA89D-CCC8-4C63-9A73-402583E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77750-468C-4C4C-96DE-01C81C7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51CE3-DD79-434C-AA32-1FC7679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F90AD-B2A6-4CB8-91E2-A925297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21368-AA91-4EEC-AB4F-FE63BC6D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11C-25A9-4865-A3E8-8986DA3D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A6444-1421-4EA0-923F-9EC8D67A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A5AB3-7EDE-40C4-B156-B1E21FA9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1CB6C-35D0-46E9-A5BE-1B634C1E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2C3CF-E208-4733-B0E2-72ADB1F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555C6-575B-4313-B4DC-2EB8BEDD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6AA31-FBC0-4177-93AA-52A52A6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CB35C-ACCC-43DC-ABC7-7C28882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F8185-C1C1-492E-AC26-D6F83EA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E35935-250F-48E0-BA26-B029BDF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30079-E4EF-4D97-9216-8C0CC84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C238-7755-4D73-A5F3-BBF96480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A1BEB-5E60-434D-BEE4-E3F5D3F6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ECD96-F566-41EF-B346-9598EBA0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1A291-EB43-44AB-8884-4A4F0D16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0D54DD-E848-42E7-AD32-701EB9A6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D22242-BA59-4BA7-AFCB-57783B6B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4FA6E-4814-4386-A791-79FED7A7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85CC6-FC76-4C28-92A0-9961B35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8A46C-0046-4312-89A1-8097A3D5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708FDE-BD76-420E-BBEA-308D0B46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BAE718-1380-4361-B891-FCEE1A8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43C0-84F2-4F7D-9332-706F514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862319-D685-4217-A975-6A7D684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4BAF9-397C-4768-8992-6F3DA97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45BCC-F59C-45B6-BE05-BBE714F4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25165-7402-4F91-BC9D-4F39F9B1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220B8-8326-4279-86E6-650428E1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DF312-D3B1-450D-B49F-B77449B6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4E18F-E486-484B-98B8-27999E4D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E94ED0-94D9-416B-B274-1CC497CC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422F3-89F8-4FE2-9AAA-6348EE2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DCAAE-6B5B-4605-A0C4-CD2DFF9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F3F4-458E-4134-9450-F4888AB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0FD0A-8FA4-478E-9462-4D7FC543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C099B1-2867-4729-BDA5-A563157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13BCF-8F8F-48A0-95E4-CEE8FAF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1CAB61-A3F1-4C66-BC8F-EEF06B4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B9A6F-0BDB-4097-B61C-95D51BA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8699C-B965-49D0-9DA5-AD541EA9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759440-211D-4AD6-A7EE-ECC69E4D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E5DAD6-892C-41C6-853F-EC8673AD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594304-B211-499C-A527-281A94D3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5890CA-0823-499F-840D-33C844D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67A1-3A52-4342-8EB8-C041D33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37F0D-6606-4EF5-8F96-4485E15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655F1-6A4E-40B3-92BC-887161F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A0FF1A-2DC8-45C5-9180-130B090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60331E-1CB7-489F-9B17-4C53C06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8FFF49-F495-4E66-A485-E098B317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9DBEE-E63A-4380-B8BE-B804517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5A5EC-2E59-47CA-9F53-AC27DC33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F4CCC-EE6E-4260-B42D-626710E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5D3BF-BADC-456C-A6E8-8B32C248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5FB63-1E8D-4B5D-81E0-5B3719C2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2AB8-76C7-4458-8B98-A8A269BD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38409-C0E2-4EE5-B0CA-19BB85E4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CBB706-F1BC-4D08-A89D-E089888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ED2EB1-EF8F-4813-BBBC-4414D9B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CB845E-6B6D-45F2-BEB8-909E3735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1B73BC-01D4-4DB6-9DB1-5605222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094C68-87E5-48E6-A0F0-A46F2AD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9B7793-45BB-4A61-B000-CD0B56B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5B801E-AA1C-46FC-9A5D-1B63BA2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3E74D-81C3-41BA-AF51-399915E2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A89358-BC19-4009-8FEE-BC6E76BF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F4A-244E-47F4-A05E-6D12942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48B9-4BCC-4B72-80D0-3A66D8F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E47380-0ED0-433F-96C1-2B6A37F4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03506B-A7F8-4F09-A304-5255049C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4FE74-B924-48BE-A818-BE53DDE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80DF57-EB03-4716-A106-0B90CA8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86C513-379D-4E51-BD50-42BF99D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2F4EBA-C8E7-44E5-AEA1-A22CDD1A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681326-3079-40FA-A34D-F6FA725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3F0BF3-2B69-47C5-8719-5FD2228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B80656-DA0D-42F3-ABB2-881208B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3F94A5-13C9-43F1-90D9-8815EFE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5FFF-3150-4C08-B294-11F50FC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BC1463-78F3-4350-97C5-81D9D5B5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5F7415-A56F-442D-AF3F-E41D0AC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FD270-A601-44D0-B401-14C851A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16E5E9-CA33-447C-959F-1FF19124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51321-3343-461E-BC7E-1BEC4D1F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5A6E33-1A9F-4458-9D06-625B83E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9EE7B7-C303-4B4F-AE50-68C8FE4D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89F202-9C37-4FBE-96AD-47562F7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D9DD79-E0DD-4C28-B360-C0C61EE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68B6B8-7F09-491E-A6AB-0E8A194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5800-29B7-433F-8AAF-F8A3DD2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4F6AFC-8B66-4076-A282-FC3426C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EF9A43-6C24-4936-B0C8-3A41C50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335EBB-5116-4FD2-9F84-4E3049F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720AE8-E870-4992-8D4A-C8E97C7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A1277-3B5C-4686-99F3-7F7D2EAF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3385DE-F1E0-4511-B2A2-430DC335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A564BC-959C-4833-B63D-1D6AB13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09A305-6A65-4B4E-BFDE-8143451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B5559F-6DD9-4FEB-A4A8-DD708BC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6E32D5-D0FC-40C8-B0A1-838693A1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334A-8E8D-4BDD-9C89-96FAB47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B6987-038B-403C-B80D-E1B38FC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C50A2D-C159-4569-8B69-34D5E86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8A3C6B-59D7-428E-A74D-4461F10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0C7AFD-F6FF-4112-8B51-A319648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636970-762F-4B88-8F2B-810C0EDC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955BA-8B9E-4C6D-87ED-8E374D1D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7F4769-6856-413E-8DC7-468AA06E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C331D6-5668-43EE-A9F2-DDB86ECF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135C27-3536-4D32-982B-907C97B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2B425-4B3D-4F54-9D21-CEE3027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DF01-521E-442E-B828-70D3A701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E98B2B-0AA9-4730-B1A8-2CE57FB5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893DBA-3D28-490B-AEC8-B3B39A0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104FB7-2AA1-48D2-B602-6BC40175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32D2BC-194E-45A3-BC1C-8024D9D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419FD2-1DD9-43E0-9F41-01E99A0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A49A46-E447-4A21-91E6-A5553C1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20EC67-6F58-4627-BA98-AE9284A7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4DD9CC-BB21-4E52-96A8-151E7F2D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4E982C-519B-4114-B1FB-F9077D2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3D60-CC25-4B8A-BB2C-C6EB5A1F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E1B6-DBAD-47EA-A0A6-11CBF12F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799B-F9A0-4C35-ACB1-0AD2CA7A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402C-A4F1-453B-BACA-9B6C86C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C3A2-492F-42A4-B1B6-B8B2805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BAA-51EB-42F9-91B4-01753AFC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9E23-C196-4E6F-B491-49CB4186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3601-7D25-47AF-B513-781263C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0B8A-3CE7-40A6-A6F2-EBF2A24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9EF5-6985-48C4-9696-6647B93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D3A9-CA65-41BD-BFB1-556F660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DD43-FAF5-445C-89B5-8B5E67B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12B2-7E7E-4619-B523-F0AEA719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648E-B190-41BE-95D7-20AB4044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BB47-7F29-45FB-B6A6-C6CA1476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D74E-3EA1-42F2-A63E-ADB4EA24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FAB-1EC0-458C-8F23-450FCC15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9FDF-3021-4A8C-B36B-B056EA3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D0BD-B83C-4BDD-8482-5FD09E91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392FA-8CB2-4600-BE23-2D23701A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F7A30-806A-4947-BBDC-70349E2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0AC84-A9A2-48D8-9D26-6912243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7DC4-F36D-484B-AD2C-4E73A75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19A9-7FB7-4312-8791-BDD7E69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B553-6C10-43ED-9103-5D19EEA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B446-57FE-4151-8493-643DD959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E015-0A59-4C80-8AB5-465201EA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D61-3071-40BB-9220-91551A9B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40DA-46B1-4FD2-AFBA-FF66D209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F2A9-5474-47BD-A3C8-EA59F905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F2C9-D379-44CC-B655-6150A5D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A94C-4BE2-43E0-92FB-EEBC4D5A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3908B-1EA5-4C48-9718-9CBA8F12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C13D-6B68-4268-9BAD-B774CD7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929A-DE17-4FD4-8290-7250D9A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697A-5CD1-4B5A-B08E-849146E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6BC5-3333-4FF7-9C7F-DB2B207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D648-6C56-4916-BC75-4AA2B20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BB8-0075-4BD8-840F-1427B9D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718D-1A29-4D6C-8859-29ED19E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38F8-313E-4DBF-B8E9-F6B68664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260E-B8C4-4720-8498-179837C6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E482-F201-4E1F-9017-FD0CD9CD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51D6B-F9D0-48DA-B15B-24E9B195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E39E-E528-4447-97A5-2293486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CD6D-ED30-4C46-BD97-1859293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1142-F1F8-4841-B00B-5EC21792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89E6-FE41-4BBA-96B0-4E12B83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C77A-BA6A-45BE-8ECE-90C7E55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EA6-18D1-4545-919C-03CE533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4056-40BF-4792-A17C-4C1F56F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70286-4323-4510-A83B-68D89C8A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A47D3-31FF-48EF-9F6E-5C991B22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5DDF-B8C0-4D0E-8F06-A3C4504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1A23-7DF2-494C-98DD-8AD9E18C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FDAD5-C70E-4C07-8243-CDBEE5F6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C8F4-9D3E-41F5-A8FC-BEA77029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7AC5-643C-48C2-B43D-C77EF438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A2E7-A2CE-4F72-957B-9DDFDA78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84D5-46BB-480F-A212-D79C1B7B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8BE-6ECB-4EC1-9FBD-E1E7A76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4E8C-1373-48FA-8E03-5FD0555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A8E5E-C6C5-492A-880A-8AA4D91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64B00-7D1C-498F-B951-D5FE564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7BF4-0776-41E4-98FB-C744726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0952-65DD-4FF5-8D43-06451F8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43D4-2832-4828-9F55-A223AE6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A3CD-1FC5-47A9-8516-E3F2B5BA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C4FCB-C5E0-4332-BD2B-565EC6BD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2FEF8-1C89-4610-A231-BCD302BE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EBF6-04E9-46EA-B4D9-92F2F56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518-1237-4B11-B77B-F672FE7A64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E27B-288B-408C-86FD-42D5A61FD21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B1C-AF2C-47E8-AD83-68C68E0E5E0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28C-8DE6-4D19-9038-02A60EF3764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434-3E35-4829-9F58-C04654B4122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7A86-1AD9-4751-8340-8C50AE3E45F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F11-B116-4353-8FDB-237039BCF4C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106-A5D5-43C1-AA2A-5943824F48C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1D6D-D0FF-4B89-A95A-F8C43101710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D17-4CA9-486F-ADCE-DEB6B767BBA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FCFD-4807-4265-BA63-51F14B7E3F9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2DC-CFBB-4DFF-A84F-291591A6A4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26A-F23E-4E1C-B8FA-4529CA0C98B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C82-54AF-4B84-8F8C-71CE7C287C6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F4A-FDD8-43E3-B613-652984CA0848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542-9820-40B2-B135-1767A8AC42D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BD1-D3F3-463B-A6B7-A61318E043DE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5038-4BFF-475E-AF6B-FC8A5C66F7D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994-1789-4E27-A6D2-7F7BAD444A1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D04B-4EDB-4C14-BD3C-6BD11C5E856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974-81AB-4B96-873E-FAC21F3CE30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1AB-4570-4AF6-A576-A7363E86B2E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F96-853A-4D38-8092-3FB31023A28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125-470B-48A6-88C9-2ED5CBE0A79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6BD-44E5-4A0E-8467-D8B83AB7613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C64-31ED-48AC-B169-075403588DB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4E3-D4C8-42D7-B23F-9D1A36372E6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1EA-2AA9-4702-80D6-DA5F1596119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C6B-E134-40E1-975E-F8A615A4183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Users/administrator/Downloads/h2020-wp1820-eic_en-SME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hyperlink" Target="https://ec.europa.eu/info/funding-tenders/opportunities/portal/screen/opportunities/topic-details/eic-fti-2018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5" Type="http://schemas.openxmlformats.org/officeDocument/2006/relationships/hyperlink" Target="https://ec.europa.eu/info/funding-tenders/opportunities/portal/screen/opportunities/topic-details/eic-smeinst-2018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6" Type="http://schemas.openxmlformats.org/officeDocument/2006/relationships/hyperlink" Target="https://ec.europa.eu/info/funding-tenders/opportunities/portal/screen/opportunities/topic-details/humanitarianaid-eicprize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7" Type="http://schemas.openxmlformats.org/officeDocument/2006/relationships/hyperlink" Target="https://ec.europa.eu/info/funding-tenders/opportunities/portal/screen/opportunities/topic-details/batteries-eicprize-2018;freeTextSearchKeyword=;typeCodes=1;statusCodes=31094501,31094502;programCode=H2020;programDivisionCode=31047848;focusAreaCode=null;crossCuttingPriorityCode=null;callCode=Default;sortQuery=openingDate;orderBy=asc;onlyTenders=false" TargetMode="External"/><Relationship Id="rId8" Type="http://schemas.openxmlformats.org/officeDocument/2006/relationships/hyperlink" Target="https://ec.europa.eu/info/funding-tenders/opportunities/portal/screen/opportunities/topic-details/blockchain-eicprize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9" Type="http://schemas.openxmlformats.org/officeDocument/2006/relationships/hyperlink" Target="https://ec.europa.eu/info/funding-tenders/opportunities/portal/screen/opportunities/topic-details/space-eicprize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0" Type="http://schemas.openxmlformats.org/officeDocument/2006/relationships/hyperlink" Target="https://ec.europa.eu/info/funding-tenders/opportunities/portal/screen/opportunities/topic-details/ce-biotec-05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1" Type="http://schemas.openxmlformats.org/officeDocument/2006/relationships/hyperlink" Target="https://ec.europa.eu/info/funding-tenders/opportunities/portal/screen/opportunities/topic-details/ce-spire-05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l.facebook.com/l.php?u=http%3A%2F%2Fpassivdom.com%2F%3Ffbclid%3DIwAR3ImVHKyYcT6u4JkD6yiIh0jcVvDhF8KaDUieaErb4guCPMSd9GArjeUPU&amp;h=AT0ZjSUYoCLaMOViTuYTx5CnwGxKKyxBslZ-3NEOBBQ0eSyviGXgoXyKAoZGLGwFCcHBQkfkQCzzsKqaKZLRMEUUzPdTlAg6cTVHhHyYWIMKHuoZZV_QLEamNQCzipSERq49" TargetMode="External"/><Relationship Id="rId2" Type="http://schemas.openxmlformats.org/officeDocument/2006/relationships/hyperlink" Target="https://l.facebook.com/l.php?u=https%3A%2F%2Fsolargaps.com%2F%3Ffbclid%3DIwAR2z2STOp6xHMWPDQqFX2hGGPVg7qWztMNjj3iCxqcET8npSwJNFtnyGRPU&amp;h=AT0ZjSUYoCLaMOViTuYTx5CnwGxKKyxBslZ-3NEOBBQ0eSyviGXgoXyKAoZGLGwFCcHBQkfkQCzzsKqaKZLRMEUUzPdTlAg6cTVHhHyYWIMKHuoZZV_QLEamNQCzipSERq49" TargetMode="External"/><Relationship Id="rId3" Type="http://schemas.openxmlformats.org/officeDocument/2006/relationships/hyperlink" Target="https://l.facebook.com/l.php?u=http%3A%2F%2Fwww.eim3d.com%2F%3Ffbclid%3DIwAR2q2LLAXK9I_65-04gFZKNuRStXL7cqcqkvyEf4qWjnSQ8W24oHDpMVM0Y&amp;h=AT0ZjSUYoCLaMOViTuYTx5CnwGxKKyxBslZ-3NEOBBQ0eSyviGXgoXyKAoZGLGwFCcHBQkfkQCzzsKqaKZLRMEUUzPdTlAg6cTVHhHyYWIMKHuoZZV_QLEamNQCzipSERq49" TargetMode="External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5" descr="horizon2020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horizon2020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Прямоугольник 1"/>
          <p:cNvSpPr/>
          <p:nvPr/>
        </p:nvSpPr>
        <p:spPr>
          <a:xfrm>
            <a:off x="627120" y="1916280"/>
            <a:ext cx="813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аза 1  - Остаточний термін подачі заявок– 5 вересня 2019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аза 2 пропонує лише підтримку гранту МСП, які потребують останнього поштовху перед етапом нарощування; і це буде пропонувати змішане фінансування (поєднуючи грант і власний капітал) МСП, які прагнуть до подальшого розвитку їх іде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аза 2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явники можуть подати заявку на змішаний варіант фінансування після закінчення 5 червня 2019 року на етапі 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ша дата завершення пропозицій 9 жовтня 2019 ро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Під змішаним варіантом фінансування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понент гранту обмежений 2,5 млн. євро у поєднанні з акціонерним компонентом до 15 мільйонів євро. Ви можете подати запит на вищу або менша сума, належним чином обґрунтов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позиції з діяльністю д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L 8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удуть фінансуються за рахунок грантів або змішаного фінансування опції. Близька до ринкової діяльності (тоб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бо вище), включені до пропозиції, будуть фінансуються лише за рахунок участі в капіталі поки пропозиція залишається неможлив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Прямоугольник 2"/>
          <p:cNvSpPr/>
          <p:nvPr/>
        </p:nvSpPr>
        <p:spPr>
          <a:xfrm>
            <a:off x="468360" y="33336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 2020 Work-Programme 2018-2020 Towards the next Framework Programme for Research and Innovation: Enhanced European Innovation Council (EIC)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file:///C:/Users/administrator/Downloads/h2020-wp1820-eic_en-SME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ство у високоефективних і промислових технологіях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dership in Enabling and Industrial 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7553160" y="6107040"/>
            <a:ext cx="1590840" cy="72252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" descr="C:\Users\Oleg\Desktop\Horizon\HORIZON.jpg"/>
          <p:cNvPicPr/>
          <p:nvPr/>
        </p:nvPicPr>
        <p:blipFill>
          <a:blip r:embed="rId2"/>
          <a:stretch/>
        </p:blipFill>
        <p:spPr>
          <a:xfrm>
            <a:off x="0" y="6149880"/>
            <a:ext cx="1008000" cy="73044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8" descr="European Commission logo"/>
          <p:cNvPicPr/>
          <p:nvPr/>
        </p:nvPicPr>
        <p:blipFill>
          <a:blip r:embed="rId3"/>
          <a:stretch/>
        </p:blipFill>
        <p:spPr>
          <a:xfrm>
            <a:off x="3780000" y="5972040"/>
            <a:ext cx="1928520" cy="85752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279000" y="4941720"/>
            <a:ext cx="86122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https://ec.europa.eu/info/funding-tenders/opportunities/portal/screen/opportunities/topic-search;freeTextSearchKeyword=;typeCodes=1;statusCodes=31094501,31094502;programCode=H2020;programDivisionCode=31047848;focusAreaCode=null;crossCuttingPriorityCode=null;callCode=Default;sortQuery=openingDate;orderBy=asc;onlyTenders=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2"/>
          <p:cNvSpPr/>
          <p:nvPr/>
        </p:nvSpPr>
        <p:spPr>
          <a:xfrm>
            <a:off x="179280" y="1268280"/>
            <a:ext cx="872028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4"/>
              </a:rPr>
              <a:t>Fast Track to Innovation (FTI)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EIC-FTI-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5"/>
              </a:rPr>
              <a:t>SME instrument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EIC-SMEInst-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6"/>
              </a:rPr>
              <a:t>EIC Horizon Prize for 'Affordable High-Tech for Humanitarian Aid'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HumanitarianAid-EICPrize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7"/>
              </a:rPr>
              <a:t>EIC Horizon Prize for 'Innovative Batteries for eVehicles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Batteries-EICPrize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8"/>
              </a:rPr>
              <a:t>EIC Horizon Prize for 'Blockchains for Social Good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Blockchain-EICPrize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9"/>
              </a:rPr>
              <a:t>EIC Horizon Prize for 'European Low-Cost Space Launch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Space-EICPrize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10"/>
              </a:rPr>
              <a:t>Microorganism communities for plastics bio-degradation (RIA)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CE-BIOTEC-05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11"/>
              </a:rPr>
              <a:t>Adaptation to variable feedstock through retrofitting (IA 50%)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CE-SPIRE-05-2019</a:t>
            </a:r>
            <a:r>
              <a:rPr b="1" lang="uk-UA" sz="1800" spc="-1" strike="noStrike">
                <a:solidFill>
                  <a:srgbClr val="616161"/>
                </a:solidFill>
                <a:latin typeface="eui-default"/>
                <a:ea typeface="Arial"/>
              </a:rPr>
              <a:t>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"/>
          <p:cNvPicPr/>
          <p:nvPr/>
        </p:nvPicPr>
        <p:blipFill>
          <a:blip r:embed="rId1"/>
          <a:srcRect l="3" t="24446" r="31685" b="6249"/>
          <a:stretch/>
        </p:blipFill>
        <p:spPr>
          <a:xfrm>
            <a:off x="179280" y="1557360"/>
            <a:ext cx="8888400" cy="5068800"/>
          </a:xfrm>
          <a:prstGeom prst="rect">
            <a:avLst/>
          </a:prstGeom>
          <a:ln w="0">
            <a:noFill/>
          </a:ln>
        </p:spPr>
      </p:pic>
      <p:sp>
        <p:nvSpPr>
          <p:cNvPr id="1270" name="Заголовок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Профінансовані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SME -1</a:t>
            </a: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 проекти 2018-202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"/>
          <p:cNvPicPr/>
          <p:nvPr/>
        </p:nvPicPr>
        <p:blipFill>
          <a:blip r:embed="rId1"/>
          <a:srcRect l="827" t="30179" r="29936" b="6249"/>
          <a:stretch/>
        </p:blipFill>
        <p:spPr>
          <a:xfrm>
            <a:off x="179280" y="1268280"/>
            <a:ext cx="8780400" cy="465156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екти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Фаза 2), що фінансуються Н2020 (о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Прямоугольник 2"/>
          <p:cNvSpPr/>
          <p:nvPr/>
        </p:nvSpPr>
        <p:spPr>
          <a:xfrm>
            <a:off x="684360" y="213372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Переможні проекти Україн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MEs</a:t>
            </a: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nstrument</a:t>
            </a: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94920" y="25200"/>
            <a:ext cx="8381880" cy="93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СТОРІЇ УСПІШНИХ ПРОЕКТІВ УКРАЇНСЬКИХ МСП ЗА ПРОГРАМОЮ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1"/>
          <p:cNvSpPr/>
          <p:nvPr/>
        </p:nvSpPr>
        <p:spPr>
          <a:xfrm>
            <a:off x="324000" y="1035000"/>
            <a:ext cx="86407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Open Sans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xBeam3D Metal Printing, Project Acronym: xBeam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ASSIV DOM UKRAINE LCC, Project Phase: Phase 1, 01/06/2017-30/11/2017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1"/>
              </a:rPr>
              <a:t>http://passivdom.com/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Feasibilitystudy for PassivDom–autonomousself-learning 3D-printed modular house, Project Acronym: Passiv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SOLARGAPS LLC, Project Phase: Phase 1, 01/11/2017-28/02/2018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2"/>
              </a:rPr>
              <a:t>https://solargaps.com/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SolarGaps-Energy generatingsolar smartwindow blinds, Project Acronym: Solar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ivate enterprise «Dominion»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, Project Phase: Phase 1, 01/11/2017-30/04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Technology for Onsite3D Printing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duction of Lengthy Large Diameter Polyethylene Pipes with Cellular Walls,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Project Acronym: TOPpipes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EXTRUSION IN MOTION LLC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3/2018-31/08/2018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3"/>
              </a:rPr>
              <a:t>http://www.eim3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assive and Active Acoustic Leak Detection System,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Acronym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PAALD LIMITED LIABILITY COMPANY INTEGRO-SD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3/2018-31/08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MS Gothic"/>
              </a:rPr>
              <a:t>http://www.integro.co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Innovative Manure Biofertilizers, Project Acronym: IMBIO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LLC RACCOON TECHNOLOGIES UKRAINE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6/2018-30/11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MS Gothic"/>
              </a:rPr>
              <a:t>https://raccoon.world/rehabilit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94920" y="25200"/>
            <a:ext cx="8381880" cy="93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СТОРІЇ УСПІШНИХ ПРОЕКТІВ УКРАЇНСЬКИХ МСП ЗА ПРОГРАМОЮ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Прямоугольник 1"/>
          <p:cNvSpPr/>
          <p:nvPr/>
        </p:nvSpPr>
        <p:spPr>
          <a:xfrm>
            <a:off x="395280" y="1268280"/>
            <a:ext cx="833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 Raccoon.Recovery–effective mobile data driven hand rehabilitation solution, Project Acronym: Raccoon.Recovery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LIMITED LIABILITY COMPANY POLYTEDA CLOUD, Project Phase: Phase 2, 01/01/2017-31/12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www.polyteda-cloud.com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EU contribution: 1.220.888 €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Innovative Cloud-BasedPV Workflow for SemiconductorFoundries, Project Acronym: PV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FIRMA INSTYTUT ECOLOGII LIUDYNY-INEKO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, Project Phase: Phase 1, 01/07/2018-31/12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inecoinstitut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 A mobile super high frequency equipment to produce highly dispersed nanosorbentin real tie based on thermally expended graphite for liquidation of natural and man-made accidents, Project Acronym: 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OILCS DISCOPERI UKRAINE LLC, Project Phase: Phase 1, 01/11/2018-31/03/2019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www.discoperi.com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System EYE -</a:t>
            </a: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utting-edge innovation to make your drive safer, collect and monetize automotive data, Project Acronym: System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Joint Stock Company NVO ChervonaHvilya, Project 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hase: Phase 1, 01/02/2017-31/07/2017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rw3dmetal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0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ожні проекти МСП</a:t>
            </a:r>
            <a:br>
              <a:rPr sz="40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Picture 2" descr=""/>
          <p:cNvPicPr/>
          <p:nvPr/>
        </p:nvPicPr>
        <p:blipFill>
          <a:blip r:embed="rId1"/>
          <a:srcRect l="13721" t="13888" r="15331" b="11905"/>
          <a:stretch/>
        </p:blipFill>
        <p:spPr>
          <a:xfrm>
            <a:off x="108000" y="1268280"/>
            <a:ext cx="8872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"/>
          <p:cNvPicPr/>
          <p:nvPr/>
        </p:nvPicPr>
        <p:blipFill>
          <a:blip r:embed="rId1"/>
          <a:srcRect l="14056" t="14483" r="16225" b="11708"/>
          <a:stretch/>
        </p:blipFill>
        <p:spPr>
          <a:xfrm>
            <a:off x="324000" y="127476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"/>
          <p:cNvPicPr/>
          <p:nvPr/>
        </p:nvPicPr>
        <p:blipFill>
          <a:blip r:embed="rId1"/>
          <a:srcRect l="14169" t="15079" r="15890" b="13829"/>
          <a:stretch/>
        </p:blipFill>
        <p:spPr>
          <a:xfrm>
            <a:off x="228600" y="1449360"/>
            <a:ext cx="85694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Прямоугольник 5"/>
          <p:cNvSpPr/>
          <p:nvPr/>
        </p:nvSpPr>
        <p:spPr>
          <a:xfrm>
            <a:off x="684360" y="2924280"/>
            <a:ext cx="8064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-Bold"/>
                <a:ea typeface="Arial"/>
              </a:rPr>
              <a:t>Можливості участі у програмі Горизонт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2768760" y="5264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енко Тетяна Микол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 національного контактного пункту Горизонт2020 «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Малі та середні підприєм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12" descr="horizon_2020_big"/>
          <p:cNvPicPr/>
          <p:nvPr/>
        </p:nvPicPr>
        <p:blipFill>
          <a:blip r:embed="rId1"/>
          <a:stretch/>
        </p:blipFill>
        <p:spPr>
          <a:xfrm>
            <a:off x="1420920" y="523800"/>
            <a:ext cx="65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8" descr=""/>
          <p:cNvPicPr/>
          <p:nvPr/>
        </p:nvPicPr>
        <p:blipFill>
          <a:blip r:embed="rId2"/>
          <a:stretch/>
        </p:blipFill>
        <p:spPr>
          <a:xfrm>
            <a:off x="42840" y="5950080"/>
            <a:ext cx="174636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74840" y="549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br>
              <a:rPr sz="40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1"/>
          <a:srcRect l="13832" t="13691" r="16225" b="20645"/>
          <a:stretch/>
        </p:blipFill>
        <p:spPr>
          <a:xfrm>
            <a:off x="179280" y="1628640"/>
            <a:ext cx="88203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"/>
          <p:cNvPicPr/>
          <p:nvPr/>
        </p:nvPicPr>
        <p:blipFill>
          <a:blip r:embed="rId1"/>
          <a:srcRect l="14947" t="14286" r="15555" b="12500"/>
          <a:stretch/>
        </p:blipFill>
        <p:spPr>
          <a:xfrm>
            <a:off x="395280" y="1341360"/>
            <a:ext cx="84614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9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l of Exsellent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(Україна в 2018 роц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Рисунок 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009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al of Exsellent (Україна в 2018 роц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Рисунок 2" descr=""/>
          <p:cNvPicPr/>
          <p:nvPr/>
        </p:nvPicPr>
        <p:blipFill>
          <a:blip r:embed="rId1"/>
          <a:stretch/>
        </p:blipFill>
        <p:spPr>
          <a:xfrm>
            <a:off x="519120" y="2997360"/>
            <a:ext cx="8105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079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Корисні посиланн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Прямоугольник 2"/>
          <p:cNvSpPr/>
          <p:nvPr/>
        </p:nvSpPr>
        <p:spPr>
          <a:xfrm>
            <a:off x="274680" y="765000"/>
            <a:ext cx="8697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П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тал Горизонт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c.europa.e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Національний портал Горизонт  2020 (Міністерство освіти і науки Украї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h2020.com.ua/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Керівництво для користувача Н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docs/h2020-funding-guide/grants/applying-for-funding/find-partners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обоча програма 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data/ref/h2020/wp/2018-2020/main/h2020-wp1820-intro_en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видкий пошук по темам H2020 за пріорите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ec.europa.eu/research/participants/portal/desktop/en/opportunities/h2020/ftags/clean_energy.html#c,topics=flags/s/CleanEnergy/1/1&amp;+callStatus/a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E instrument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Н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portal/desktop/en/funding/sme_particip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екомендації щодо формування проектних заявок: 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p.edu.ua/sites/default/files/news/2018/8386/attachments/eic-sme-instrument-annotated-template-a4sme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Пошук партнерів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ttps://www.up2eur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rcRect l="49923" t="14872" r="20973" b="19892"/>
          <a:stretch/>
        </p:blipFill>
        <p:spPr>
          <a:xfrm>
            <a:off x="146160" y="1765440"/>
            <a:ext cx="3786120" cy="47718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rcRect l="49881" t="14872" r="11062" b="16166"/>
          <a:stretch/>
        </p:blipFill>
        <p:spPr>
          <a:xfrm>
            <a:off x="3962520" y="1628640"/>
            <a:ext cx="50832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Прямоугольник 1"/>
          <p:cNvSpPr/>
          <p:nvPr/>
        </p:nvSpPr>
        <p:spPr>
          <a:xfrm>
            <a:off x="971640" y="907920"/>
            <a:ext cx="748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Horizon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2021-20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упна дослідницька та інноваційна рамкова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ького Сою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ttps://ec.europa.eu/info/node/7188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C:\Users\Oleg\Desktop\Horizon\HORIZON.jpg"/>
          <p:cNvPicPr/>
          <p:nvPr/>
        </p:nvPicPr>
        <p:blipFill>
          <a:blip r:embed="rId1"/>
          <a:stretch/>
        </p:blipFill>
        <p:spPr>
          <a:xfrm>
            <a:off x="684360" y="189000"/>
            <a:ext cx="2014560" cy="114624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664000" cy="1211040"/>
          </a:xfrm>
          <a:prstGeom prst="rect">
            <a:avLst/>
          </a:prstGeom>
          <a:ln w="0">
            <a:noFill/>
          </a:ln>
        </p:spPr>
      </p:pic>
      <p:sp>
        <p:nvSpPr>
          <p:cNvPr id="1300" name="Прямоугольник 5"/>
          <p:cNvSpPr/>
          <p:nvPr/>
        </p:nvSpPr>
        <p:spPr>
          <a:xfrm>
            <a:off x="250920" y="1484280"/>
            <a:ext cx="8713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альноукраїнський національний технічний уні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аціональний контактний пункт Рамкової програми ЕС з досліджень та інновацій “Горизонт 20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 напрямком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“Малі та середні підприємства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 НКП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Тетяна Кот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ндидат економічних наук, доц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E-mail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kntu.inintex@gmail.co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ncp-sme.k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facebook.com/h2020.ncp.sme.k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ел.: (+38)050-684-03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с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03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, Україна, м.Кропивниц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п. Університетський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8" descr="European Commission logo"/>
          <p:cNvPicPr/>
          <p:nvPr/>
        </p:nvPicPr>
        <p:blipFill>
          <a:blip r:embed="rId3"/>
          <a:stretch/>
        </p:blipFill>
        <p:spPr>
          <a:xfrm>
            <a:off x="3203640" y="115920"/>
            <a:ext cx="2592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krainian NCPs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MEs)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5" descr=""/>
          <p:cNvPicPr/>
          <p:nvPr/>
        </p:nvPicPr>
        <p:blipFill>
          <a:blip r:embed="rId1"/>
          <a:stretch/>
        </p:blipFill>
        <p:spPr>
          <a:xfrm>
            <a:off x="7424640" y="6059520"/>
            <a:ext cx="1719360" cy="7794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map_ua"/>
          <p:cNvPicPr/>
          <p:nvPr/>
        </p:nvPicPr>
        <p:blipFill>
          <a:blip r:embed="rId2"/>
          <a:stretch/>
        </p:blipFill>
        <p:spPr>
          <a:xfrm>
            <a:off x="971640" y="1268280"/>
            <a:ext cx="7272360" cy="45291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2" descr="C:\Users\Oleg\Desktop\Horizon\HORIZON.jpg"/>
          <p:cNvPicPr/>
          <p:nvPr/>
        </p:nvPicPr>
        <p:blipFill>
          <a:blip r:embed="rId3"/>
          <a:stretch/>
        </p:blipFill>
        <p:spPr>
          <a:xfrm>
            <a:off x="7920" y="6033960"/>
            <a:ext cx="1324080" cy="801720"/>
          </a:xfrm>
          <a:prstGeom prst="rect">
            <a:avLst/>
          </a:prstGeom>
          <a:ln w="0">
            <a:noFill/>
          </a:ln>
        </p:spPr>
      </p:pic>
      <p:sp>
        <p:nvSpPr>
          <p:cNvPr id="1199" name="Line 53"/>
          <p:cNvSpPr/>
          <p:nvPr/>
        </p:nvSpPr>
        <p:spPr>
          <a:xfrm flipH="1">
            <a:off x="4427280" y="2852640"/>
            <a:ext cx="36036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53"/>
          <p:cNvSpPr/>
          <p:nvPr/>
        </p:nvSpPr>
        <p:spPr>
          <a:xfrm>
            <a:off x="4788000" y="2852640"/>
            <a:ext cx="50472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1"/>
          <p:cNvSpPr/>
          <p:nvPr/>
        </p:nvSpPr>
        <p:spPr>
          <a:xfrm>
            <a:off x="4417920" y="34624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Kropyvnytsk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9"/>
          <p:cNvSpPr/>
          <p:nvPr/>
        </p:nvSpPr>
        <p:spPr>
          <a:xfrm>
            <a:off x="4098600" y="458136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Verdana"/>
                <a:ea typeface="Arial"/>
              </a:rPr>
              <a:t>Od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4140360" y="242100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Verdana"/>
                <a:ea typeface="Arial"/>
              </a:rPr>
              <a:t>Ky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" descr=""/>
          <p:cNvPicPr/>
          <p:nvPr/>
        </p:nvPicPr>
        <p:blipFill>
          <a:blip r:embed="rId4"/>
          <a:stretch/>
        </p:blipFill>
        <p:spPr>
          <a:xfrm>
            <a:off x="3670200" y="6008760"/>
            <a:ext cx="18622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Прямоугольник 3"/>
          <p:cNvSpPr/>
          <p:nvPr/>
        </p:nvSpPr>
        <p:spPr>
          <a:xfrm>
            <a:off x="1665360" y="56419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4"/>
          <p:cNvSpPr/>
          <p:nvPr/>
        </p:nvSpPr>
        <p:spPr>
          <a:xfrm>
            <a:off x="825480" y="1904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ЩО ТАКЕ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ORIZON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5"/>
          <p:cNvSpPr/>
          <p:nvPr/>
        </p:nvSpPr>
        <p:spPr>
          <a:xfrm>
            <a:off x="657360" y="83664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ограма Європейського Союзу з фінансуванн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уки та інновацій з загальним бюджетом близьк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80 млрд. єв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розрахована 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4 – 2020 рок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 поділена на три основні напр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3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657360" y="2052720"/>
            <a:ext cx="8137440" cy="44798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4160" y="267840"/>
            <a:ext cx="8548560" cy="46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ME Instrument 2018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Прямая соединительная линия 4"/>
          <p:cNvSpPr/>
          <p:nvPr/>
        </p:nvSpPr>
        <p:spPr>
          <a:xfrm>
            <a:off x="4532400" y="3389400"/>
            <a:ext cx="792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Rectangle 20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748720" cy="19936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6" descr=""/>
          <p:cNvPicPr/>
          <p:nvPr/>
        </p:nvPicPr>
        <p:blipFill>
          <a:blip r:embed="rId2"/>
          <a:stretch/>
        </p:blipFill>
        <p:spPr>
          <a:xfrm>
            <a:off x="684360" y="3005280"/>
            <a:ext cx="8262720" cy="24033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"/>
          <p:cNvPicPr/>
          <p:nvPr/>
        </p:nvPicPr>
        <p:blipFill>
          <a:blip r:embed="rId3"/>
          <a:stretch/>
        </p:blipFill>
        <p:spPr>
          <a:xfrm>
            <a:off x="684360" y="5618160"/>
            <a:ext cx="8454960" cy="600120"/>
          </a:xfrm>
          <a:prstGeom prst="rect">
            <a:avLst/>
          </a:prstGeom>
          <a:ln w="0">
            <a:noFill/>
          </a:ln>
        </p:spPr>
      </p:pic>
      <p:sp>
        <p:nvSpPr>
          <p:cNvPr id="1214" name="Rectangle 17"/>
          <p:cNvSpPr/>
          <p:nvPr/>
        </p:nvSpPr>
        <p:spPr>
          <a:xfrm>
            <a:off x="90000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0"/>
          <p:cNvSpPr/>
          <p:nvPr/>
        </p:nvSpPr>
        <p:spPr>
          <a:xfrm>
            <a:off x="1403280" y="4005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нцепці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оці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ці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Прямоугольник 11"/>
          <p:cNvSpPr/>
          <p:nvPr/>
        </p:nvSpPr>
        <p:spPr>
          <a:xfrm>
            <a:off x="3778200" y="371628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монстр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нков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тенціа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лідження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зро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Прямоугольник 12"/>
          <p:cNvSpPr/>
          <p:nvPr/>
        </p:nvSpPr>
        <p:spPr>
          <a:xfrm>
            <a:off x="6643800" y="381636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мерціал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Прямоугольник 14"/>
          <p:cNvSpPr/>
          <p:nvPr/>
        </p:nvSpPr>
        <p:spPr>
          <a:xfrm>
            <a:off x="6232680" y="4861080"/>
            <a:ext cx="2790720" cy="73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Інструмент МСП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як спосіб отримання фінансових коштів від Є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15"/>
          <p:cNvSpPr/>
          <p:nvPr/>
        </p:nvSpPr>
        <p:spPr>
          <a:xfrm>
            <a:off x="539640" y="5691240"/>
            <a:ext cx="84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Ідея             бізнес-коучинг і безкоштовні послуги                      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4920" y="200160"/>
            <a:ext cx="838188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начення МСП згідно дефініцій Європейської комісії </a:t>
            </a:r>
            <a:br>
              <a:rPr sz="2400"/>
            </a:b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categor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1" name="Object 4"/>
          <p:cNvGraphicFramePr/>
          <p:nvPr/>
        </p:nvGraphicFramePr>
        <p:xfrm>
          <a:off x="250920" y="2133720"/>
          <a:ext cx="1086624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108662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3" name=""/>
          <p:cNvGraphicFramePr/>
          <p:nvPr/>
        </p:nvGraphicFramePr>
        <p:xfrm>
          <a:off x="395280" y="981000"/>
          <a:ext cx="8496360" cy="5300640"/>
        </p:xfrm>
        <a:graphic>
          <a:graphicData uri="http://schemas.openxmlformats.org/drawingml/2006/table">
            <a:tbl>
              <a:tblPr/>
              <a:tblGrid>
                <a:gridCol w="1440000"/>
                <a:gridCol w="2243160"/>
                <a:gridCol w="2406600"/>
                <a:gridCol w="24066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1 ф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2 фаз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3 ф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ехніко-економіч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бґрунт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Інноваційний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Комерціаліза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цінка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технічно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здійсненност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а ринк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отенціал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 інновацій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роектних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і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Розробка, випробуванн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рото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, пілотні інновацій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роцес, продукти та по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тримати засоби підтрим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для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комерціал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інноваційних продуктів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Фінансування Є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50,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(70% від усього проек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0,5 - 2,5 млн.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(70% від усього проек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Нема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Тривалі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6 місяц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1-2 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МСП можуть отрим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підтримку вже під час Фази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Результ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Техніко-економіч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обґрунтування та бізнес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Arial Black"/>
                          <a:ea typeface="Arial"/>
                        </a:rPr>
                        <a:t>Технологія або продукт</a:t>
                      </a: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, які готові до комерціалізації 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розширення масштаб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Отриман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ідтримка та коучінг</a:t>
                      </a: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доступ до ризик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фінансування, а також ін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можливостей (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Трен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3 д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12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нема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4" name="Rectangle 322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504d"/>
                </a:solidFill>
                <a:uFillTx/>
                <a:latin typeface="Times New Roman"/>
              </a:rPr>
              <a:t>ФАЗИ ІНСТРУМЕНТУ ФІНАНСУВАННЯ 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Прямоугольник 6"/>
          <p:cNvSpPr/>
          <p:nvPr/>
        </p:nvSpPr>
        <p:spPr>
          <a:xfrm>
            <a:off x="324000" y="189000"/>
            <a:ext cx="8480160" cy="459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"/>
              </a:rPr>
              <a:t>ВИ МОЖЕТЕ ПОДА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3597120" y="355284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івні технологічної готовност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324000" y="4724280"/>
            <a:ext cx="862308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         2             3            4             5              6              7              8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Rectangle 10"/>
          <p:cNvGrpSpPr/>
          <p:nvPr/>
        </p:nvGrpSpPr>
        <p:grpSpPr>
          <a:xfrm>
            <a:off x="665280" y="4065480"/>
            <a:ext cx="1461960" cy="567000"/>
            <a:chOff x="665280" y="4065480"/>
            <a:chExt cx="1461960" cy="567000"/>
          </a:xfrm>
        </p:grpSpPr>
        <p:pic>
          <p:nvPicPr>
            <p:cNvPr id="1229" name="Rectangle 10" descr=""/>
            <p:cNvPicPr/>
            <p:nvPr/>
          </p:nvPicPr>
          <p:blipFill>
            <a:blip r:embed="rId1"/>
            <a:stretch/>
          </p:blipFill>
          <p:spPr>
            <a:xfrm>
              <a:off x="665280" y="4065480"/>
              <a:ext cx="14619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727200" y="4103640"/>
              <a:ext cx="134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2.Форм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технолог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Rectangle 12"/>
          <p:cNvGrpSpPr/>
          <p:nvPr/>
        </p:nvGrpSpPr>
        <p:grpSpPr>
          <a:xfrm>
            <a:off x="2206800" y="3822840"/>
            <a:ext cx="2352600" cy="755640"/>
            <a:chOff x="2206800" y="3822840"/>
            <a:chExt cx="2352600" cy="755640"/>
          </a:xfrm>
        </p:grpSpPr>
        <p:pic>
          <p:nvPicPr>
            <p:cNvPr id="1232" name="Rectangle 12" descr=""/>
            <p:cNvPicPr/>
            <p:nvPr/>
          </p:nvPicPr>
          <p:blipFill>
            <a:blip r:embed="rId2"/>
            <a:stretch/>
          </p:blipFill>
          <p:spPr>
            <a:xfrm>
              <a:off x="2206800" y="3822840"/>
              <a:ext cx="23526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2268360" y="3860640"/>
              <a:ext cx="223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4. Обгрунтування/Валідація: прототип малого масштабу/у лаборатор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Rectangle 14"/>
          <p:cNvGrpSpPr/>
          <p:nvPr/>
        </p:nvGrpSpPr>
        <p:grpSpPr>
          <a:xfrm>
            <a:off x="4498920" y="4114800"/>
            <a:ext cx="2346480" cy="573120"/>
            <a:chOff x="4498920" y="4114800"/>
            <a:chExt cx="2346480" cy="573120"/>
          </a:xfrm>
        </p:grpSpPr>
        <p:pic>
          <p:nvPicPr>
            <p:cNvPr id="1235" name="Rectangle 14" descr=""/>
            <p:cNvPicPr/>
            <p:nvPr/>
          </p:nvPicPr>
          <p:blipFill>
            <a:blip r:embed="rId3"/>
            <a:stretch/>
          </p:blipFill>
          <p:spPr>
            <a:xfrm>
              <a:off x="4498920" y="4114800"/>
              <a:ext cx="2346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4560840" y="4154400"/>
              <a:ext cx="223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6. Демонстраційний зразок 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відповідному 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Rectangle 16"/>
          <p:cNvGrpSpPr/>
          <p:nvPr/>
        </p:nvGrpSpPr>
        <p:grpSpPr>
          <a:xfrm>
            <a:off x="6778800" y="3803760"/>
            <a:ext cx="1914480" cy="755640"/>
            <a:chOff x="6778800" y="3803760"/>
            <a:chExt cx="1914480" cy="755640"/>
          </a:xfrm>
        </p:grpSpPr>
        <p:pic>
          <p:nvPicPr>
            <p:cNvPr id="1238" name="Rectangle 16" descr=""/>
            <p:cNvPicPr/>
            <p:nvPr/>
          </p:nvPicPr>
          <p:blipFill>
            <a:blip r:embed="rId4"/>
            <a:stretch/>
          </p:blipFill>
          <p:spPr>
            <a:xfrm>
              <a:off x="6778800" y="3803760"/>
              <a:ext cx="19144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6840360" y="3841920"/>
              <a:ext cx="1798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8. Система закінчена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ібрана та відповідно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к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17"/>
          <p:cNvSpPr/>
          <p:nvPr/>
        </p:nvSpPr>
        <p:spPr>
          <a:xfrm>
            <a:off x="5867280" y="573408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8"/>
          <p:cNvSpPr/>
          <p:nvPr/>
        </p:nvSpPr>
        <p:spPr>
          <a:xfrm>
            <a:off x="324000" y="4653000"/>
            <a:ext cx="8820000" cy="503280"/>
          </a:xfrm>
          <a:prstGeom prst="rightArrow">
            <a:avLst>
              <a:gd name="adj1" fmla="val 50000"/>
              <a:gd name="adj2" fmla="val 4381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Rectangle 19"/>
          <p:cNvGrpSpPr/>
          <p:nvPr/>
        </p:nvGrpSpPr>
        <p:grpSpPr>
          <a:xfrm>
            <a:off x="182520" y="5157720"/>
            <a:ext cx="1195560" cy="566640"/>
            <a:chOff x="182520" y="5157720"/>
            <a:chExt cx="1195560" cy="566640"/>
          </a:xfrm>
        </p:grpSpPr>
        <p:pic>
          <p:nvPicPr>
            <p:cNvPr id="1243" name="Rectangle 19" descr=""/>
            <p:cNvPicPr/>
            <p:nvPr/>
          </p:nvPicPr>
          <p:blipFill>
            <a:blip r:embed="rId5"/>
            <a:stretch/>
          </p:blipFill>
          <p:spPr>
            <a:xfrm>
              <a:off x="182520" y="5157720"/>
              <a:ext cx="11955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41200" y="519444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1.Базо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дослі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Rectangle 20"/>
          <p:cNvGrpSpPr/>
          <p:nvPr/>
        </p:nvGrpSpPr>
        <p:grpSpPr>
          <a:xfrm>
            <a:off x="1700280" y="5340240"/>
            <a:ext cx="1847880" cy="567000"/>
            <a:chOff x="1700280" y="5340240"/>
            <a:chExt cx="1847880" cy="567000"/>
          </a:xfrm>
        </p:grpSpPr>
        <p:pic>
          <p:nvPicPr>
            <p:cNvPr id="1246" name="Rectangle 20" descr=""/>
            <p:cNvPicPr/>
            <p:nvPr/>
          </p:nvPicPr>
          <p:blipFill>
            <a:blip r:embed="rId6"/>
            <a:stretch/>
          </p:blipFill>
          <p:spPr>
            <a:xfrm>
              <a:off x="1700280" y="5340240"/>
              <a:ext cx="18478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1763640" y="537372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3. Експериментальні докази концеп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Rectangle 21"/>
          <p:cNvGrpSpPr/>
          <p:nvPr/>
        </p:nvGrpSpPr>
        <p:grpSpPr>
          <a:xfrm>
            <a:off x="3432240" y="5340240"/>
            <a:ext cx="1968480" cy="938160"/>
            <a:chOff x="3432240" y="5340240"/>
            <a:chExt cx="1968480" cy="938160"/>
          </a:xfrm>
        </p:grpSpPr>
        <p:pic>
          <p:nvPicPr>
            <p:cNvPr id="1249" name="Rectangle 21" descr=""/>
            <p:cNvPicPr/>
            <p:nvPr/>
          </p:nvPicPr>
          <p:blipFill>
            <a:blip r:embed="rId7"/>
            <a:stretch/>
          </p:blipFill>
          <p:spPr>
            <a:xfrm>
              <a:off x="3432240" y="5340240"/>
              <a:ext cx="196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3492360" y="5373720"/>
              <a:ext cx="185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5. Валідація: прототи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великого масштабу/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аль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Rectangle 22"/>
          <p:cNvGrpSpPr/>
          <p:nvPr/>
        </p:nvGrpSpPr>
        <p:grpSpPr>
          <a:xfrm>
            <a:off x="5589720" y="5340240"/>
            <a:ext cx="1841400" cy="1121040"/>
            <a:chOff x="5589720" y="5340240"/>
            <a:chExt cx="1841400" cy="1121040"/>
          </a:xfrm>
        </p:grpSpPr>
        <p:pic>
          <p:nvPicPr>
            <p:cNvPr id="1252" name="Rectangle 22" descr=""/>
            <p:cNvPicPr/>
            <p:nvPr/>
          </p:nvPicPr>
          <p:blipFill>
            <a:blip r:embed="rId8"/>
            <a:stretch/>
          </p:blipFill>
          <p:spPr>
            <a:xfrm>
              <a:off x="5589720" y="5340240"/>
              <a:ext cx="18414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5651640" y="5373720"/>
              <a:ext cx="1726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7. Демонстрацій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разок/прототи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истеми 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перацій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Rectangle 23"/>
          <p:cNvGrpSpPr/>
          <p:nvPr/>
        </p:nvGrpSpPr>
        <p:grpSpPr>
          <a:xfrm>
            <a:off x="7534440" y="5340240"/>
            <a:ext cx="1469880" cy="755640"/>
            <a:chOff x="7534440" y="5340240"/>
            <a:chExt cx="1469880" cy="755640"/>
          </a:xfrm>
        </p:grpSpPr>
        <p:pic>
          <p:nvPicPr>
            <p:cNvPr id="1255" name="Rectangle 23" descr=""/>
            <p:cNvPicPr/>
            <p:nvPr/>
          </p:nvPicPr>
          <p:blipFill>
            <a:blip r:embed="rId9"/>
            <a:stretch/>
          </p:blipFill>
          <p:spPr>
            <a:xfrm>
              <a:off x="7534440" y="5340240"/>
              <a:ext cx="146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7596360" y="5373720"/>
              <a:ext cx="135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9.Пов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ерцій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стос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Rectangle 6"/>
          <p:cNvSpPr/>
          <p:nvPr/>
        </p:nvSpPr>
        <p:spPr>
          <a:xfrm>
            <a:off x="395280" y="981000"/>
            <a:ext cx="8408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  Ваше МСП має інноваційний, новаторський продукт та  або рішення з високим потенціалом зростання і має  чіткі європейські амбі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 Ваша інноваційна ідея є відкритою і передовою та відповідає критерію «інноваційної ідеї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  Ви можете подати на Фазу 2, якщо Ваш продукт або рішення знаходиться на 6 рівні технологічної готовності або ви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Виклики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ME Instrument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2018-2020</a:t>
            </a:r>
            <a:br>
              <a:rPr sz="80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http://ec.europa.eu/research/participants/portal/desktop/en/opportunities/h2020/ftags/sme_instrument.html#c,topics=flags/s/SME/1/1&amp;+callIdentifier/des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785880" y="1214280"/>
          <a:ext cx="8001000" cy="5154840"/>
        </p:xfrm>
        <a:graphic>
          <a:graphicData uri="http://schemas.openxmlformats.org/drawingml/2006/table">
            <a:tbl>
              <a:tblPr/>
              <a:tblGrid>
                <a:gridCol w="1722240"/>
                <a:gridCol w="2092320"/>
                <a:gridCol w="2094120"/>
                <a:gridCol w="2092320"/>
              </a:tblGrid>
              <a:tr h="500400"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Ета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за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лютого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 травня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5 вересня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7 листопада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3 лютого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7 трав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5 вересня 2019 года – останній строк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448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з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C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0 січня 2018 р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4 берез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3 трав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0 жовт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9 січ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 квіт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 черв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9 жовтня 2019 року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8 січня 2020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8 березня 2020 года 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9 травня 2020 года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7 жовтня 2020 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</a:tr>
            </a:tbl>
          </a:graphicData>
        </a:graphic>
      </p:graphicFrame>
      <p:sp>
        <p:nvSpPr>
          <p:cNvPr id="1260" name="Rectangle 1"/>
          <p:cNvSpPr/>
          <p:nvPr/>
        </p:nvSpPr>
        <p:spPr>
          <a:xfrm>
            <a:off x="4458600" y="824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14:27:22Z</dcterms:created>
  <dc:creator>Пользователь Windows</dc:creator>
  <dc:description/>
  <dc:language>en-US</dc:language>
  <cp:lastModifiedBy>administrator</cp:lastModifiedBy>
  <cp:lastPrinted>2018-11-05T22:19:53Z</cp:lastPrinted>
  <dcterms:modified xsi:type="dcterms:W3CDTF">2019-06-05T05:32:42Z</dcterms:modified>
  <cp:revision>78</cp:revision>
  <dc:subject/>
  <dc:title>Презентация PowerPoint</dc:title>
</cp:coreProperties>
</file>