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12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32.png" ContentType="image/png"/>
  <Override PartName="/ppt/media/image11.png" ContentType="image/png"/>
  <Override PartName="/ppt/media/image35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BAB-8980-499A-997C-4C8558F7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776-8508-40AF-A2D1-DD2F1E30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FA8CF-8F63-405A-B19B-9C881075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5F6CE-D744-467D-A90B-7C73A87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93463-84C2-4523-83FB-5DB5B557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0133E-8035-4002-AF63-B255CDD5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EBEAD-4DBE-4027-B791-2264446B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95D5B-CAA3-45E7-8E05-27538DB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0A10C-BF9E-420D-B87B-9B030ADC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F0C5A-59A9-4FA4-91A6-D705C20A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86B96-777F-4379-9AB2-1027C681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A1283-BA07-47F7-90D4-780505E3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7E5-54EB-473B-94B6-1A43B425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A8BFB-BA7D-40D8-AB57-F60C9AF2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8F1EF-0A94-451B-9654-D75BC8A8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30A17-B6A0-4863-AE40-7643C64C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30008-5B74-4CCC-8BC7-E572954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D1267-8278-4894-A1F2-50DE75C9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4ABBA-E57A-43FE-A207-3D55E2D7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81F5B-4639-4081-80BD-7BDD4411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8E746-58AD-49BC-83E6-5EEE310A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2E994-AB59-484C-8B1B-5F7D7C13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91E8A-CA50-4309-8566-2A4E8369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284-0162-4E9D-8DC0-C9584712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2176F-59FD-4C5E-A4FE-15633A2C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525AF-5332-4BB5-8322-1946EDA3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CD75F-D0A6-4911-993D-4E0402B1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A929-0A24-4EAA-ACB5-F399ADAF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8EC72-D8B0-4770-8FE2-737202AF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7B9B2-F8F8-4F2A-B0A1-47B87C85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82843-F803-4BCD-8011-4B6FFF57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E1B02-D4EC-4CCF-9B9D-5B8CB3BC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CC176-5DF0-4CB8-BD95-7059D0C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201C9-1E27-4788-86C5-B3BD7CFE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2E2-2BEA-40C4-887F-C87803C3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F4176-DD45-47DF-B851-C2441D4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35E29-7152-4148-8BF4-383C9671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F5C66-7EB8-43E2-9EBC-9BB541E4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59990-1728-445F-971B-BD10AFD1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02262-BD90-4894-B50F-794E36FB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A9382-F992-4053-8EEB-C55FCED9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EF335-DDF9-4738-8782-98C86C76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486B9-6318-4730-A317-24AAE0E8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87709-C79B-43CD-9DB5-5EDE0D60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752FF-342B-4FA5-A91C-A66B1D64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10BB-4641-4C98-A986-E0FE42A7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9E2E6-48AF-4959-BE24-5047E22E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6AC5B-64FF-427C-A5A5-BEB25C5F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E8310-4917-4C83-A062-2C7F3040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49C09-43FA-47F9-B0E6-33279927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27FEA-198E-47EB-B363-61DD4906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61C8B-79E5-441D-A0B6-B3605BBA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88019-EED5-48A5-B172-82380062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D9F37-0D02-466A-990F-4BE0E584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8CE37-6E7F-4BD1-B3D8-ED8E3C7D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AF124-7CFE-4F41-977A-4764CDC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73C5-E337-4A2C-A096-AE846E27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07F79-9372-40CA-AD8E-311D2EAB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97F92-4C9C-4365-8667-C4B8AEF1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3BCD5-8736-483E-9983-C240791A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5EF58-0819-4B97-B26C-4F547DF1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95316-A6E6-4FF9-B01E-1A4D98CC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40833-D1D7-4264-BDB2-919E9324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A3367-7BAA-4540-A9DF-842ED113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59BB0-7C27-4678-80C8-46DAC69F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8DEC0-8504-46E2-B114-65AE7E96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443F7-BA40-4DF4-9E78-26E00A7B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780A-5952-4A7D-8576-84671F1A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A4A7E-AE2E-4284-BD13-12828D1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52D99-D691-438D-A989-2D045C6A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DA643-4B7A-4B7C-AF97-2D79EE8E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89593-A3D9-4C1B-8EE5-C6EDFF2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091C7-5C5E-47A5-806E-BB5893E1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03926-BFAC-4DF7-826E-AFEC6A12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1AB20-4235-4369-B8D0-D1B82255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A7857-632D-4B59-B9ED-E823146D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B9E50-C313-458A-9294-C4CFEC7F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768D9-6CEE-44C4-98FA-7F9CF8DB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53CA-1666-4EC5-B73E-4BF57A30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9E5B9-BAE6-4F45-94F4-82315C5F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D8BF7-B937-404D-AD0D-D4161D6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0C9B5-35F0-402B-A111-F761F501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1D719-4A3B-4DEB-9B66-059B9A61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54D99-215F-4911-BD04-D96AC8E0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7B70E-99F6-4B10-AE8A-DD50A020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56E09-DB88-4BFF-9C89-50520AE8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36D8D-95C9-4082-9547-131A76F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77F23-104C-467C-A09C-E93B5AEE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BA333E-5D39-4061-9815-7793C00D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E108-DFD7-40E3-A5DE-97CE34B7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DBCA8-DAF1-456C-8719-F0A15C72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8477F-363F-42A7-975A-68EE0F32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28FF4-BE0B-4D4D-966E-81AFDC32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58C82-F3A7-40F9-BB0C-4459FFF5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8D34A-7BD9-4281-B9C4-603BB63C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09ACF-F383-4ABB-86B8-1B027EBD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427FD-4346-4C63-A2CC-6891489E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9A20A-068F-4D2C-B7E7-6714FD9F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AF597-574A-4AB5-ADAE-84F735B4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F6F8E-EDDB-4E62-A5C9-EC39C80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7BF3-080E-43B1-8899-DC58AAB7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4770E-5256-4432-A384-EE4D5CC7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D14CF-4C6A-4D6A-80B8-DD97BE46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34D3A-855D-41E9-BC55-9CE9BDD4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7EB83-8838-4125-8821-03A10B61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FF66A-4980-45FB-837B-35625155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7CD43-87D3-40D3-93B5-79C2BC17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1A42A-292B-43CD-85C2-DFF2F3D6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3A2A4-44D3-4F89-BD33-FD7AEE38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07F1E1-BEEB-44B6-8FEE-C929E04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565E9-B151-4B75-A2A7-15C46358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C3C-606C-466A-9405-41DB28E9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A927-B46A-45F4-BBF8-3322EC1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7B844-2885-430C-8466-3FEEBE56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0486C-0163-49E0-88F0-4BE206F6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E92B9-980D-4EA2-822A-0C7A1FBD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26574-C858-4809-ABAD-EBBA9D14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FF57D-BEB5-46C4-8292-02169084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4A9123-A574-46F4-8307-82BD3E31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BE669-9CCD-44E5-8548-7AF39875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D1166-B727-4204-8818-746525F8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E0A87-5BB3-415C-B371-D42F0B7C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D3885-2917-4E26-BC45-9A94B4A5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588F-C1C5-41B2-B6A2-DF76A1D0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2EDA4-308B-4737-A05E-115C937B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D9EF0E-FFFC-4C96-8DC2-FED3D3B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084BD-C835-4CDD-922C-7D673E9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2ED43-1780-412A-83A4-AD09150C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761A5-CB3F-4B78-9F35-C4D25300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A8370-D6CB-41DB-A967-81907B8B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1228BA-EA3A-458A-8E4C-7980408A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70BE6D-1B3E-44ED-BA91-70C0E0BF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C7EF1-7828-4ACB-8E5C-49E83046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E62E6-5A75-4760-B466-70A77AB4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948F-7C9D-49E6-9AAA-D0E01698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DDCE7-82C7-46BE-9F09-CBE9A6B0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A391CB-8B23-4016-A968-532E52FF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917AA3-A926-446F-8089-6A60A515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3E56A-9121-43B6-80C1-DC1A7785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1C4BA-CC0A-443B-8160-A9230B4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6324F9-0F52-4831-BADB-3835D485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8EE34-0C84-4E73-8E50-AED232D1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139B6-BCDA-4E78-AB1C-75A4C807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61254-982F-4A74-BBD0-B2607798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41C9B-6D2F-4EFE-B15D-779048A3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71D7-F20B-49EF-BCB4-1D9A27FA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1BAB3-F1BE-4D47-8CC7-F1A84BC0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FCDE6-D8E4-4ABE-8254-2BF93F4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A0184C-123B-4A47-9A07-14D3844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9D2F8-D7CD-41B6-A185-62C25640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396FC6-BF82-4EEE-8875-AD7EBB7D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7E38D-CF3B-48BC-A422-877C5BEB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89095D-568C-4236-816E-68F44CA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2EC17-25F5-4112-B8BE-5641F3B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96EFD-3BF7-4445-9348-DC7674A5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8B74AB-8A01-4D11-A966-8FC9E3F4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89AF-C286-4D27-8F79-476BE2D5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7A1C8C-877C-4A4D-A28B-8ECB0DBC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FC5B7-4ED7-401F-96EE-F18679BA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C9CC8F-2448-4B67-87C2-D0884F13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54175-AA74-45A5-81BF-A727A0F0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B631A-741A-48E1-9912-63309BAF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EA0FA-0641-4069-97C4-45298727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B5883-870F-4F5F-B19B-62E78219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2E5B8-6822-4B46-8DC1-7D375730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2F6B6-6B36-4497-A6A3-72F0C55D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B32F3-EC8E-43E3-A6F4-E7BF2AA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49E2-FA2F-4CC7-8D6F-5A0746AA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93408-EB0D-4083-8D7A-871131A3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C14AB6-424A-43A0-8448-4DDE71E6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C67DFE-7825-4EAD-B3DB-7AD26C73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025BF4-6208-462D-A0B7-163C0A19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E5FB5D-AC47-45A7-BF50-6986979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CAC501-6481-4B3C-BBAF-539B4BC4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588A72-4491-49DA-A9F8-4B9DCA86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52E900-D295-4399-A7FA-766446D7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89FBF7-C33A-4480-8CBD-E59E45C2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2D96D8-1ECA-47BC-B564-29EE5DB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F846-0D84-47E8-80EB-FFBBE5C1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0F8DF4-318A-4A14-A3EC-875B9DDB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8D9422-6690-438F-8271-08BE1E3B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369E67-AA04-4689-AB02-6723C277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08C224-083C-4839-BF7A-4CBB7B0C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AA990E-699F-473D-8FF5-16DF1102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210506-AD4F-451E-B9BA-777EC2BD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4719CB-8FF8-4E12-A19D-ABC473B9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8416B7-25CD-4ED7-916E-EF3B7FBD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49F5FD-3A56-438B-8C8B-F090BD3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4C325-F342-43F1-B66D-981FBF1D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D9DE-5EEF-4F2C-A21F-3AFABC93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EF4074-4E13-46B3-A717-74045A4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5C55C1-ADDC-4B9B-BC2D-A697052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A65FEF-3F7C-4AF2-A969-7276F5C9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F67C38-26EF-494D-8311-418B7F9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BEF281-3FE3-4E6B-9D60-08C3E5F6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ACB4B-5FA2-4C6D-B002-C02C7E41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FC0A5E-708B-4DE0-9A8B-8535F426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5E826B-557A-48D9-BF0A-18E6DAEA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63500A-E602-4DCA-A6A2-DA57264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7430AE-465B-4981-9FE0-B9BF1829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242F-BED3-4DCA-B211-BFC1A30E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C53078-CD04-4659-983C-0441C64F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7DA64A-F91C-4CF4-BD6E-2962E2CC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1AF07C-1BDB-4BA9-82FF-B09C43EC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BDD329-B9A0-43ED-BDEC-3766C34D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1E00AE-6F74-4DF8-9038-4FC85B4A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0791B5-C39C-43D7-A214-AE5E2B0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0943AA-84B1-44E9-A109-4AA8B24F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0984F2-90FA-4422-979A-D701E04F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5B72D1-BB39-45D7-8D90-89843D71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1E9C51-967A-472C-96D8-F401AFA2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86FA-EAC7-42A7-8C6E-F0BA4D9E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AA4AFB-11CA-4732-8FB2-559CA7FA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689E9B-3A33-4D0D-819D-752AC164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FF19A2-A9FF-4440-9E95-C76DD820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23B05B-9F62-4D7A-84A7-0F10691B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DF89DF-5519-4130-8566-17ED6EA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963939-44AC-44D6-935E-671BC12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317080-1CBB-47D5-89A6-904816D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15CC9C-DDD3-4F46-B70B-72D5CF0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6A0E05-AD4E-47DD-854A-E8A665E2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B42793-937F-4250-AC24-A8696F0D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BCA-88F5-4AA1-8A9C-CE9CF048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0169-BE71-4E47-9642-B9EC8B3F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86D419-14D7-468F-9B9E-91865564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2406FE-3640-44A2-82A1-5FBA3E6C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54927E-A77E-4DB4-BB34-499A1CF6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BE5314-B3DC-4594-A239-79E71304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259CBC-2106-49F7-9D6C-A20B3FE1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2F6918-5A59-45B6-A3CE-CFE43AA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F29199-0D1F-4706-B6C0-2BDD5D58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981317-A062-4F06-990A-D59304E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3D184D-8ECA-4CA6-807D-1BEF51C0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A83E69-7527-4FA3-B583-806FE4AB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FF80-6014-455E-B465-F129F44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C66D06-2299-4E63-91EA-B4193D8C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963E54-E9BC-4B96-8E37-5389B891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9BA9F2-7F83-4925-A69E-6C9D5EFC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0004F8-80A9-43AF-85A5-D017E454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F36689-F01B-4DE1-A6ED-4A31F853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502395-B0C8-44B1-98B5-9843DC71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99F130-BC11-4E3E-88D5-64017A95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B6167E-137A-48B4-92B1-08FFB153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66052F-64EA-4A23-B2D6-FED00F6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0D3985-6F8F-4BFA-B2EC-4A15E7EB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733B-B788-4882-B4EA-B580DAEE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45B3D5-0C2C-401D-9D97-F0DC10F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A65F21-F63F-4A73-9CBC-D48760DE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4CD3C0-7FB8-4F19-88ED-6675F50D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04774F-C542-42A9-B43E-8B289C98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39FC3E-AE99-4D84-AE36-7F5DB448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9FE20A-7B77-4067-A5C5-6AAF01E7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4C18F9-93E5-4812-B4AA-42171AB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572D15-5A35-4FBF-9287-3A143C6B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9063A5-ACC8-45BD-BB80-26D9C1C4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857FB9-8266-48E6-9E7D-FA4D8A4A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FD80-4073-43CA-8D00-B607293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60EA7C-DA8F-4CE7-89D1-9CC5C5F7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621D4F-6C61-4F14-8CE5-BA07B523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75BFD5-3FE2-4777-AD47-2A8366AA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633091-BC20-440D-95FA-8E5A00D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9A1F33-84E2-41AB-8D8F-DA851311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D6B01C-CC63-4377-936B-EA903205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8121B9-28CF-4CB0-8BB7-26AEC3B1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E6DF1F-6296-4A22-9388-BCF335E8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8D8BFE-3AAB-4676-A3A6-B8405E9E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E3AA73-639B-4BB4-BF69-0927446B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5CFB-C87A-44ED-9D36-953FA5F1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E82D99-8DBC-4C07-8699-69EA1B6A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AA707C-F08E-417E-864B-863EB4FB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CA2EC4-DC8D-450E-9509-0B7FDF64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A842BC-DD7E-4BBC-9202-8CF2CBD1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9203C3-7428-4AAA-B123-D384C9E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1C315F-44B6-491E-9DFA-344A6894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ED682C-4FF5-49A4-8057-1FC10793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796D79-4F81-43C7-AA96-C3A05339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55E5E2-51F7-429A-8C68-BA2234C3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F716-580B-439C-8020-880EC368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DE0C-05D7-4FCF-8CF3-47B4C224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1183-DBBE-43D3-A959-3B89489C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973BA-D5AE-41EC-8D03-14D50549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0E51-0FB3-4BAA-B214-B769586D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826-3990-4732-A932-BA024E82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AC12-CDD5-4B37-8FD0-152E27C5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BFAEB-C747-4548-BB91-0EEA1910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4066-3E46-4C4F-95BA-7A18218E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371F-EBB9-46B9-BFD6-7E77D000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BDE6-FDB6-4878-A4F5-0A85B729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ADDE-BC66-4B86-86AC-3D06B18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2FD8-5B4F-4971-8BE1-B03957B7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F3D39-D3A5-4DDC-87E3-3C501192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1927B-3C91-4CAD-8F5D-D98E507E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20E7-9798-4733-A423-F5102F02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D00-1BAD-42B7-81BE-6FBF5D11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A9225-C0DA-423B-BB37-531236E5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9693B-6E7B-40E3-ABB1-9281076C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5336C-4994-42F2-8C20-0C50BC53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89F5-98AE-45D8-9F07-E455466F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64D58-F7CF-4834-A99A-7B216D3C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E30E0-D1A6-4ADF-B449-18AF7D7C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E4D1B-F397-49BD-8A84-96A151A7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F6422-B7FE-464B-8F72-D0E23551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5E39E-7E21-4D4A-96E4-D3334AFC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AD842-A79D-4B86-B0C7-68071B48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B2C-08F4-4DF3-8111-1FEAF5B4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764DC-0B3B-4234-ADD7-E6BA01C4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9D193-9F02-4D18-ACAD-CED9B9B6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2BCFB-B8CD-4755-8BE1-303ABB9E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3D11-8559-48AD-BE1F-016DFBC5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DBDD4-BC56-4C23-A322-E12C1BA9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F7D9D-AF23-46D2-94D0-4B63667C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52DCF-8802-4926-8C9D-78DCA131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CC9D-7645-44D2-9748-12E3FF06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CD16A-87BC-4B55-851A-E7CBAE22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8FA71-D094-4F8D-BC8D-E74881E7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73B-F47D-40FD-B977-60AFAC61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17D6-1A42-4B65-9B2C-B9E2945C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3D206-444A-4227-959D-1984D9DB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D7ECC-6C01-44D8-8076-0520F6E7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A1428-4A1D-4425-985D-44A8E77C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E25CA-49CC-40B1-A505-0F1D9054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6FEF-E65D-4963-85C3-0420F8AE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8190D-8B23-4778-98CC-7F8C5D32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DA5BD-7ED1-4B44-80B1-04282910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CA77-BC4B-4126-AECB-E34A4690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04536-996F-4444-94FC-EC5C11FF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900-9A62-4383-90AA-C95F7FB6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AD8C1-190D-4B46-9405-4E56EE17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5E254-5D8B-4CE2-82A1-BFC7AA0D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74369-AF84-4A43-AEDD-74DD6529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06354-323E-48E2-A1BF-AEBB6705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8006F-8E57-47F3-A599-9BA3CBCC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EF3AC-B6B8-4B38-9F7E-CE5BAB74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698C6-AE4A-4930-B86B-E004E274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985A-47A4-4E8F-8AA3-FA69C61D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6E717-60E4-4EA6-AE43-EA1B13F0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D9608-80D8-4475-843E-51B5C934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A88-375E-4EC8-851C-9D29C420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D5338-B178-426F-AD26-4D45E219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D7704-6351-4732-9B99-C7405C4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4CF6A-7BB5-486D-B719-F95EFCB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C25E9-22E5-4B79-BBAF-46329026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E38C1-25C7-4345-8128-D6D68DE7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5F93-3E9F-4440-8621-58152917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D38A5-4CB3-43C4-A406-DF4C4909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19F27-C54F-4E52-9D33-D0BFB436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DCAE8-44A4-499C-A6B5-7CD0182F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E5F1D-E896-454A-A51F-B026B5E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3856-AB85-4EB0-A752-EFF9F95CF9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421F-291E-4630-85C1-83F38862F2B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5E68-3627-4F66-A502-F052875866A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8CC1-F864-4913-9FB1-CF0B37E15E2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D23F-2034-4995-BEE7-9B5DF534989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7F50-3C0C-4756-BE09-B6A2F328C94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C9B1-97BA-4FCC-8E6F-E4F9FE20570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3ADF-9A53-4D53-B56D-F881CC081EC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B34F-05BF-400F-B154-3FE14899A0E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52C4-8247-419A-B0B7-EAB4DC76DF0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1320-7A33-4319-9175-5E4C5C75FFA1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5506-A042-4725-9E15-FE7DBE8D249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7C84-1FA0-4E62-B417-8160526AFAAA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4500-C0F4-46C4-90A0-42DC4BEDE541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4323-9CCB-49AA-A6BD-37F5548438C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E475-4BB5-4B66-8E44-BB9A249175D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E2FE-028B-4510-9560-B437623B70D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BDBC-0A90-4C18-8B36-AF472374CC8A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4224-894D-4FE0-A687-4629C20F06C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2E90-5B96-4110-A86F-A8A7424796E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A780-CAD4-4B1F-9EC6-1F474C0795F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8BDF-A4D6-4346-B94E-8AB4519194A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14D0-FEE0-41EC-9DAC-D10A7DE9CD6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C002-ED33-4DDE-BFCC-337A485669B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F2A5-5ABE-4F63-A146-FBD5B627FF8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144A-D77E-4217-B371-57CC12C27F85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C137-B49D-47BB-AED2-7816C94F714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11D-ADB9-4E19-84E9-EC3C270B5DE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A231-6009-4836-B083-D7625030558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Users/administrator/Downloads/h2020-wp1820-eic_en-SME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hyperlink" Target="https://ec.europa.eu/info/funding-tenders/opportunities/portal/screen/opportunities/topic-details/eic-fti-2018-2020;freeTextSearchKeyword=;typeCodes=1;statusCodes=31094501,31094502;programCode=H2020;programDivisionCode=31047848;focusAreaCode=null;crossCuttingPriorityCode=null;callCode=Default;sortQuery=openingDate;orderBy=asc;onlyTenders=false" TargetMode="External"/><Relationship Id="rId5" Type="http://schemas.openxmlformats.org/officeDocument/2006/relationships/hyperlink" Target="https://ec.europa.eu/info/funding-tenders/opportunities/portal/screen/opportunities/topic-details/eic-smeinst-2018-2020;freeTextSearchKeyword=;typeCodes=1;statusCodes=31094501,31094502;programCode=H2020;programDivisionCode=31047848;focusAreaCode=null;crossCuttingPriorityCode=null;callCode=Default;sortQuery=openingDate;orderBy=asc;onlyTenders=false" TargetMode="External"/><Relationship Id="rId6" Type="http://schemas.openxmlformats.org/officeDocument/2006/relationships/hyperlink" Target="https://ec.europa.eu/info/funding-tenders/opportunities/portal/screen/opportunities/topic-details/humanitarianaid-eicprize-2020;freeTextSearchKeyword=;typeCodes=1;statusCodes=31094501,31094502;programCode=H2020;programDivisionCode=31047848;focusAreaCode=null;crossCuttingPriorityCode=null;callCode=Default;sortQuery=openingDate;orderBy=asc;onlyTenders=false" TargetMode="External"/><Relationship Id="rId7" Type="http://schemas.openxmlformats.org/officeDocument/2006/relationships/hyperlink" Target="https://ec.europa.eu/info/funding-tenders/opportunities/portal/screen/opportunities/topic-details/batteries-eicprize-2018;freeTextSearchKeyword=;typeCodes=1;statusCodes=31094501,31094502;programCode=H2020;programDivisionCode=31047848;focusAreaCode=null;crossCuttingPriorityCode=null;callCode=Default;sortQuery=openingDate;orderBy=asc;onlyTenders=false" TargetMode="External"/><Relationship Id="rId8" Type="http://schemas.openxmlformats.org/officeDocument/2006/relationships/hyperlink" Target="https://ec.europa.eu/info/funding-tenders/opportunities/portal/screen/opportunities/topic-details/blockchain-eicprize-2019;freeTextSearchKeyword=;typeCodes=1;statusCodes=31094501,31094502;programCode=H2020;programDivisionCode=31047848;focusAreaCode=null;crossCuttingPriorityCode=null;callCode=Default;sortQuery=openingDate;orderBy=asc;onlyTenders=false" TargetMode="External"/><Relationship Id="rId9" Type="http://schemas.openxmlformats.org/officeDocument/2006/relationships/hyperlink" Target="https://ec.europa.eu/info/funding-tenders/opportunities/portal/screen/opportunities/topic-details/space-eicprize-2019;freeTextSearchKeyword=;typeCodes=1;statusCodes=31094501,31094502;programCode=H2020;programDivisionCode=31047848;focusAreaCode=null;crossCuttingPriorityCode=null;callCode=Default;sortQuery=openingDate;orderBy=asc;onlyTenders=false" TargetMode="External"/><Relationship Id="rId10" Type="http://schemas.openxmlformats.org/officeDocument/2006/relationships/hyperlink" Target="https://ec.europa.eu/info/funding-tenders/opportunities/portal/screen/opportunities/topic-details/ce-biotec-05-2019;freeTextSearchKeyword=;typeCodes=1;statusCodes=31094501,31094502;programCode=H2020;programDivisionCode=31047848;focusAreaCode=null;crossCuttingPriorityCode=null;callCode=Default;sortQuery=openingDate;orderBy=asc;onlyTenders=false" TargetMode="External"/><Relationship Id="rId11" Type="http://schemas.openxmlformats.org/officeDocument/2006/relationships/hyperlink" Target="https://ec.europa.eu/info/funding-tenders/opportunities/portal/screen/opportunities/topic-details/ce-spire-05-2019;freeTextSearchKeyword=;typeCodes=1;statusCodes=31094501,31094502;programCode=H2020;programDivisionCode=31047848;focusAreaCode=null;crossCuttingPriorityCode=null;callCode=Default;sortQuery=openingDate;orderBy=asc;onlyTenders=false" TargetMode="External"/><Relationship Id="rId1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l.facebook.com/l.php?u=http%3A%2F%2Fpassivdom.com%2F%3Ffbclid%3DIwAR3ImVHKyYcT6u4JkD6yiIh0jcVvDhF8KaDUieaErb4guCPMSd9GArjeUPU&amp;h=AT0ZjSUYoCLaMOViTuYTx5CnwGxKKyxBslZ-3NEOBBQ0eSyviGXgoXyKAoZGLGwFCcHBQkfkQCzzsKqaKZLRMEUUzPdTlAg6cTVHhHyYWIMKHuoZZV_QLEamNQCzipSERq49" TargetMode="External"/><Relationship Id="rId2" Type="http://schemas.openxmlformats.org/officeDocument/2006/relationships/hyperlink" Target="https://l.facebook.com/l.php?u=https%3A%2F%2Fsolargaps.com%2F%3Ffbclid%3DIwAR2z2STOp6xHMWPDQqFX2hGGPVg7qWztMNjj3iCxqcET8npSwJNFtnyGRPU&amp;h=AT0ZjSUYoCLaMOViTuYTx5CnwGxKKyxBslZ-3NEOBBQ0eSyviGXgoXyKAoZGLGwFCcHBQkfkQCzzsKqaKZLRMEUUzPdTlAg6cTVHhHyYWIMKHuoZZV_QLEamNQCzipSERq49" TargetMode="External"/><Relationship Id="rId3" Type="http://schemas.openxmlformats.org/officeDocument/2006/relationships/hyperlink" Target="https://l.facebook.com/l.php?u=http%3A%2F%2Fwww.eim3d.com%2F%3Ffbclid%3DIwAR2q2LLAXK9I_65-04gFZKNuRStXL7cqcqkvyEf4qWjnSQ8W24oHDpMVM0Y&amp;h=AT0ZjSUYoCLaMOViTuYTx5CnwGxKKyxBslZ-3NEOBBQ0eSyviGXgoXyKAoZGLGwFCcHBQkfkQCzzsKqaKZLRMEUUzPdTlAg6cTVHhHyYWIMKHuoZZV_QLEamNQCzipSERq49" TargetMode="External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Picture 5" descr="horizon2020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6" descr="horizon2020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Прямоугольник 1"/>
          <p:cNvSpPr/>
          <p:nvPr/>
        </p:nvSpPr>
        <p:spPr>
          <a:xfrm>
            <a:off x="627120" y="1916280"/>
            <a:ext cx="813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аза 1  - Остаточний термін подачі заявок– 5 вересня 2019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аза 2 пропонує лише підтримку гранту МСП, які потребують останнього поштовху перед етапом нарощування; і це буде пропонувати змішане фінансування (поєднуючи грант і власний капітал) МСП, які прагнуть до подальшого розвитку їх іде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Фаза 2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явники можуть подати заявку на змішаний варіант фінансування після закінчення 5 червня 2019 року на етапі 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ша дата завершення пропозицій 9 жовтня 2019 ро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Під змішаним варіантом фінансування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мпонент гранту обмежений 2,5 млн. євро у поєднанні з акціонерним компонентом до 15 мільйонів євро. Ви можете подати запит на вищу або менша сума, належним чином обґрунтова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позиції з діяльністю д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L 8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удуть фінансуються за рахунок грантів або змішаного фінансування опції. Близька до ринкової діяльності (тоб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бо вище), включені до пропозиції, будуть фінансуються лише за рахунок участі в капіталі поки пропозиція залишається неможлив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Прямоугольник 2"/>
          <p:cNvSpPr/>
          <p:nvPr/>
        </p:nvSpPr>
        <p:spPr>
          <a:xfrm>
            <a:off x="468360" y="333360"/>
            <a:ext cx="8496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 2020 Work-Programme 2018-2020 Towards the next Framework Programme for Research and Innovation: Enhanced European Innovation Council (EIC) pi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file:///C:/Users/administrator/Downloads/h2020-wp1820-eic_en-SME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дерство у високоефективних і промислових технологіях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adership in Enabling and Industrial 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5" descr=""/>
          <p:cNvPicPr/>
          <p:nvPr/>
        </p:nvPicPr>
        <p:blipFill>
          <a:blip r:embed="rId1"/>
          <a:stretch/>
        </p:blipFill>
        <p:spPr>
          <a:xfrm>
            <a:off x="7553160" y="6107040"/>
            <a:ext cx="1590840" cy="72252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2" descr="C:\Users\Oleg\Desktop\Horizon\HORIZON.jpg"/>
          <p:cNvPicPr/>
          <p:nvPr/>
        </p:nvPicPr>
        <p:blipFill>
          <a:blip r:embed="rId2"/>
          <a:stretch/>
        </p:blipFill>
        <p:spPr>
          <a:xfrm>
            <a:off x="0" y="6149880"/>
            <a:ext cx="1008000" cy="73044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8" descr="European Commission logo"/>
          <p:cNvPicPr/>
          <p:nvPr/>
        </p:nvPicPr>
        <p:blipFill>
          <a:blip r:embed="rId3"/>
          <a:stretch/>
        </p:blipFill>
        <p:spPr>
          <a:xfrm>
            <a:off x="3780000" y="5972040"/>
            <a:ext cx="1928520" cy="85752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 txBox="1"/>
          <p:nvPr/>
        </p:nvSpPr>
        <p:spPr>
          <a:xfrm>
            <a:off x="279000" y="4941720"/>
            <a:ext cx="86122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https://ec.europa.eu/info/funding-tenders/opportunities/portal/screen/opportunities/topic-search;freeTextSearchKeyword=;typeCodes=1;statusCodes=31094501,31094502;programCode=H2020;programDivisionCode=31047848;focusAreaCode=null;crossCuttingPriorityCode=null;callCode=Default;sortQuery=openingDate;orderBy=asc;onlyTenders=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Прямоугольник 2"/>
          <p:cNvSpPr/>
          <p:nvPr/>
        </p:nvSpPr>
        <p:spPr>
          <a:xfrm>
            <a:off x="179280" y="1268280"/>
            <a:ext cx="8720280" cy="36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4"/>
              </a:rPr>
              <a:t>Fast Track to Innovation (FTI)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EIC-FTI-2018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5"/>
              </a:rPr>
              <a:t>SME instrument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EIC-SMEInst-2018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6"/>
              </a:rPr>
              <a:t>EIC Horizon Prize for 'Affordable High-Tech for Humanitarian Aid'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HumanitarianAid-EICPrize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7"/>
              </a:rPr>
              <a:t>EIC Horizon Prize for 'Innovative Batteries for eVehicles'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Batteries-EICPrize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8"/>
              </a:rPr>
              <a:t>EIC Horizon Prize for 'Blockchains for Social Good'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Blockchain-EICPrize-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9"/>
              </a:rPr>
              <a:t>EIC Horizon Prize for 'European Low-Cost Space Launch'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Space-EICPrize-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10"/>
              </a:rPr>
              <a:t>Microorganism communities for plastics bio-degradation (RIA)</a:t>
            </a:r>
            <a:r>
              <a:rPr b="1" lang="en-US" sz="1800" spc="-1" strike="noStrike">
                <a:solidFill>
                  <a:srgbClr val="004494"/>
                </a:solidFill>
                <a:latin typeface="eui-default"/>
                <a:ea typeface="Arial"/>
              </a:rPr>
              <a:t>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CE-BIOTEC-05-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eui-default"/>
                <a:ea typeface="Arial"/>
                <a:hlinkClick r:id="rId11"/>
              </a:rPr>
              <a:t>Adaptation to variable feedstock through retrofitting (IA 50%) </a:t>
            </a:r>
            <a:r>
              <a:rPr b="1" lang="en-US" sz="1800" spc="-1" strike="noStrike">
                <a:solidFill>
                  <a:srgbClr val="616161"/>
                </a:solidFill>
                <a:latin typeface="eui-default"/>
                <a:ea typeface="Arial"/>
              </a:rPr>
              <a:t>CE-SPIRE-05-2019</a:t>
            </a:r>
            <a:r>
              <a:rPr b="1" lang="uk-UA" sz="1800" spc="-1" strike="noStrike">
                <a:solidFill>
                  <a:srgbClr val="616161"/>
                </a:solidFill>
                <a:latin typeface="eui-default"/>
                <a:ea typeface="Arial"/>
              </a:rPr>
              <a:t>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"/>
          <p:cNvPicPr/>
          <p:nvPr/>
        </p:nvPicPr>
        <p:blipFill>
          <a:blip r:embed="rId1"/>
          <a:srcRect l="3" t="24446" r="31685" b="6249"/>
          <a:stretch/>
        </p:blipFill>
        <p:spPr>
          <a:xfrm>
            <a:off x="179280" y="1557360"/>
            <a:ext cx="8888400" cy="5068800"/>
          </a:xfrm>
          <a:prstGeom prst="rect">
            <a:avLst/>
          </a:prstGeom>
          <a:ln w="0">
            <a:noFill/>
          </a:ln>
        </p:spPr>
      </p:pic>
      <p:sp>
        <p:nvSpPr>
          <p:cNvPr id="1270" name="Заголовок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0000"/>
                </a:solidFill>
                <a:latin typeface="Calibri"/>
              </a:rPr>
              <a:t>Профінансовані 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SME -1</a:t>
            </a:r>
            <a:r>
              <a:rPr b="0" lang="uk-UA" sz="3300" spc="-1" strike="noStrike">
                <a:solidFill>
                  <a:srgbClr val="ff0000"/>
                </a:solidFill>
                <a:latin typeface="Calibri"/>
              </a:rPr>
              <a:t> проекти 2018-202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2" descr=""/>
          <p:cNvPicPr/>
          <p:nvPr/>
        </p:nvPicPr>
        <p:blipFill>
          <a:blip r:embed="rId1"/>
          <a:srcRect l="827" t="30179" r="29936" b="6249"/>
          <a:stretch/>
        </p:blipFill>
        <p:spPr>
          <a:xfrm>
            <a:off x="179280" y="1268280"/>
            <a:ext cx="8780400" cy="4651560"/>
          </a:xfrm>
          <a:prstGeom prst="rect">
            <a:avLst/>
          </a:prstGeom>
          <a:ln w="0">
            <a:noFill/>
          </a:ln>
        </p:spPr>
      </p:pic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екти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Фаза 2), що фінансуються Н2020 (о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Прямоугольник 2"/>
          <p:cNvSpPr/>
          <p:nvPr/>
        </p:nvSpPr>
        <p:spPr>
          <a:xfrm>
            <a:off x="684360" y="213372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Calibri"/>
              </a:rPr>
              <a:t>Переможні проекти Україн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MEs</a:t>
            </a:r>
            <a:r>
              <a:rPr b="0" lang="uk-UA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nstrument</a:t>
            </a:r>
            <a:r>
              <a:rPr b="0" lang="uk-UA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94920" y="25200"/>
            <a:ext cx="8381880" cy="93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СТОРІЇ УСПІШНИХ ПРОЕКТІВ УКРАЇНСЬКИХ МСП ЗА ПРОГРАМОЮ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оугольник 1"/>
          <p:cNvSpPr/>
          <p:nvPr/>
        </p:nvSpPr>
        <p:spPr>
          <a:xfrm>
            <a:off x="324000" y="1035000"/>
            <a:ext cx="86407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Open Sans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xBeam3D Metal Printing, Project Acronym: xBeam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ASSIV DOM UKRAINE LCC, Project Phase: Phase 1, 01/06/2017-30/11/2017,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MS Gothic"/>
                <a:hlinkClick r:id="rId1"/>
              </a:rPr>
              <a:t>http://passivdom.com/</a:t>
            </a:r>
            <a:br>
              <a:rPr sz="1800"/>
            </a:b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Feasibilitystudy for PassivDom–autonomousself-learning 3D-printed modular house, Project Acronym: Passiv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SOLARGAPS LLC, Project Phase: Phase 1, 01/11/2017-28/02/2018,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MS Gothic"/>
                <a:hlinkClick r:id="rId2"/>
              </a:rPr>
              <a:t>https://solargaps.com/</a:t>
            </a:r>
            <a:br>
              <a:rPr sz="1800"/>
            </a:b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SolarGaps-Energy generatingsolar smartwindow blinds, Project Acronym: Solar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ivate enterprise «Dominion»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, Project Phase: Phase 1, 01/11/2017-30/04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Technology for Onsite3D Printing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duction of Lengthy Large Diameter Polyethylene Pipes with Cellular Walls,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Project Acronym: TOPpipes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EXTRUSION IN MOTION LLC,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 Phase: Phase 1, 01/03/2018-31/08/2018,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MS Gothic"/>
                <a:hlinkClick r:id="rId3"/>
              </a:rPr>
              <a:t>http://www.eim3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assive and Active Acoustic Leak Detection System,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 Acronym: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 PAALD LIMITED LIABILITY COMPANY INTEGRO-SD,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 Phase: Phase 1, 01/03/2018-31/08/2018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MS Gothic"/>
              </a:rPr>
              <a:t>http://www.integro.co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: Innovative Manure Biofertilizers, Project Acronym: IMBIO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LLC RACCOON TECHNOLOGIES UKRAINE,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MS Gothic"/>
              </a:rPr>
              <a:t>Project Phase: Phase 1, 01/06/2018-30/11/2018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MS Gothic"/>
              </a:rPr>
              <a:t>https://raccoon.world/rehabilit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555555"/>
                </a:solidFill>
                <a:latin typeface="Times New Roman"/>
                <a:ea typeface="MS Gothic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94920" y="25200"/>
            <a:ext cx="8381880" cy="93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СТОРІЇ УСПІШНИХ ПРОЕКТІВ УКРАЇНСЬКИХ МСП ЗА ПРОГРАМОЮ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Прямоугольник 1"/>
          <p:cNvSpPr/>
          <p:nvPr/>
        </p:nvSpPr>
        <p:spPr>
          <a:xfrm>
            <a:off x="395280" y="1268280"/>
            <a:ext cx="833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roject: Raccoon.Recovery–effective mobile data driven hand rehabilitation solution, Project Acronym: Raccoon.Recovery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LIMITED LIABILITY COMPANY POLYTEDA CLOUD, Project Phase: Phase 2, 01/01/2017-31/12/2018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Times New Roman"/>
              </a:rPr>
              <a:t>http://www.polyteda-cloud.com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EU contribution: 1.220.888 €</a:t>
            </a:r>
            <a:br>
              <a:rPr sz="1800"/>
            </a:b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roject: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Innovative Cloud-BasedPV Workflow for SemiconductorFoundries, Project Acronym: PV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FIRMA INSTYTUT ECOLOGII LIUDYNY-INEKO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, Project Phase: Phase 1, 01/07/2018-31/12/2018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Times New Roman"/>
              </a:rPr>
              <a:t>http://inecoinstitute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roject: A mobile super high frequency equipment to produce highly dispersed nanosorbentin real tie based on thermally expended graphite for liquidation of natural and man-made accidents, Project Acronym: 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OILCS DISCOPERI UKRAINE LLC, Project Phase: Phase 1, 01/11/2018-31/03/2019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Times New Roman"/>
              </a:rPr>
              <a:t>http://www.discoperi.com</a:t>
            </a:r>
            <a:br>
              <a:rPr sz="1800"/>
            </a:b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roject: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 System EYE -</a:t>
            </a:r>
            <a:r>
              <a:rPr b="0" lang="uk-UA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utting-edge innovation to make your drive safer, collect and monetize automotive data, Project Acronym: System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Joint Stock Company NVO ChervonaHvilya, Project </a:t>
            </a:r>
            <a:r>
              <a:rPr b="0" lang="en-US" sz="18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Phase: Phase 1, 01/02/2017-31/07/2017, </a:t>
            </a:r>
            <a:r>
              <a:rPr b="0" lang="en-US" sz="1800" spc="-1" strike="noStrike">
                <a:solidFill>
                  <a:srgbClr val="0d85cc"/>
                </a:solidFill>
                <a:latin typeface="Times New Roman"/>
                <a:ea typeface="Times New Roman"/>
              </a:rPr>
              <a:t>http://rw3dmetal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0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можні проекти МСП</a:t>
            </a:r>
            <a:br>
              <a:rPr sz="4000"/>
            </a:b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9" name="Picture 2" descr=""/>
          <p:cNvPicPr/>
          <p:nvPr/>
        </p:nvPicPr>
        <p:blipFill>
          <a:blip r:embed="rId1"/>
          <a:srcRect l="13721" t="13888" r="15331" b="11905"/>
          <a:stretch/>
        </p:blipFill>
        <p:spPr>
          <a:xfrm>
            <a:off x="108000" y="1268280"/>
            <a:ext cx="88725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Переможні проекти МС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1" name="Picture 2" descr=""/>
          <p:cNvPicPr/>
          <p:nvPr/>
        </p:nvPicPr>
        <p:blipFill>
          <a:blip r:embed="rId1"/>
          <a:srcRect l="14056" t="14483" r="16225" b="11708"/>
          <a:stretch/>
        </p:blipFill>
        <p:spPr>
          <a:xfrm>
            <a:off x="324000" y="127476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Переможні проекти МС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3" name="Picture 2" descr=""/>
          <p:cNvPicPr/>
          <p:nvPr/>
        </p:nvPicPr>
        <p:blipFill>
          <a:blip r:embed="rId1"/>
          <a:srcRect l="14169" t="15079" r="15890" b="13829"/>
          <a:stretch/>
        </p:blipFill>
        <p:spPr>
          <a:xfrm>
            <a:off x="228600" y="1449360"/>
            <a:ext cx="85694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Прямоугольник 5"/>
          <p:cNvSpPr/>
          <p:nvPr/>
        </p:nvSpPr>
        <p:spPr>
          <a:xfrm>
            <a:off x="684360" y="2924280"/>
            <a:ext cx="8064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-Bold"/>
                <a:ea typeface="Arial"/>
              </a:rPr>
              <a:t>Можливості участі у програмі Горизонт 20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Прямоугольник 6"/>
          <p:cNvSpPr/>
          <p:nvPr/>
        </p:nvSpPr>
        <p:spPr>
          <a:xfrm>
            <a:off x="2768760" y="526428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енко Тетяна Микол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ерівник національного контактного пункту Горизонт2020 «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Малі та середні підприєм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3" name="Picture 12" descr="horizon_2020_big"/>
          <p:cNvPicPr/>
          <p:nvPr/>
        </p:nvPicPr>
        <p:blipFill>
          <a:blip r:embed="rId1"/>
          <a:stretch/>
        </p:blipFill>
        <p:spPr>
          <a:xfrm>
            <a:off x="1420920" y="523800"/>
            <a:ext cx="65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8" descr=""/>
          <p:cNvPicPr/>
          <p:nvPr/>
        </p:nvPicPr>
        <p:blipFill>
          <a:blip r:embed="rId2"/>
          <a:stretch/>
        </p:blipFill>
        <p:spPr>
          <a:xfrm>
            <a:off x="42840" y="5950080"/>
            <a:ext cx="174636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74840" y="549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Переможні проекти МСП</a:t>
            </a:r>
            <a:br>
              <a:rPr sz="4000"/>
            </a:b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1"/>
          <a:srcRect l="13832" t="13691" r="16225" b="20645"/>
          <a:stretch/>
        </p:blipFill>
        <p:spPr>
          <a:xfrm>
            <a:off x="179280" y="1628640"/>
            <a:ext cx="882036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Переможні проекти МС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7" name="Picture 2" descr=""/>
          <p:cNvPicPr/>
          <p:nvPr/>
        </p:nvPicPr>
        <p:blipFill>
          <a:blip r:embed="rId1"/>
          <a:srcRect l="14947" t="14286" r="15555" b="12500"/>
          <a:stretch/>
        </p:blipFill>
        <p:spPr>
          <a:xfrm>
            <a:off x="395280" y="1341360"/>
            <a:ext cx="84614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9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l of Exsellent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(Україна в 2018 роц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Рисунок 3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5009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eal of Exsellent (Україна в 2018 роц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1" name="Рисунок 2" descr=""/>
          <p:cNvPicPr/>
          <p:nvPr/>
        </p:nvPicPr>
        <p:blipFill>
          <a:blip r:embed="rId1"/>
          <a:stretch/>
        </p:blipFill>
        <p:spPr>
          <a:xfrm>
            <a:off x="519120" y="2997360"/>
            <a:ext cx="81057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0796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Корисні посиланн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Прямоугольник 2"/>
          <p:cNvSpPr/>
          <p:nvPr/>
        </p:nvSpPr>
        <p:spPr>
          <a:xfrm>
            <a:off x="274680" y="765000"/>
            <a:ext cx="8697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По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</a:t>
            </a: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тал Горизонт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c.europa.e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Національний портал Горизонт  2020 (Міністерство освіти і науки Украї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h2020.com.ua/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Керівництво для користувача Н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c.europa.eu/research/participants/docs/h2020-funding-guide/grants/applying-for-funding/find-partners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обоча програма 2018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c.europa.eu/research/participants/data/ref/h2020/wp/2018-2020/main/h2020-wp1820-intro_en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Швидкий пошук по темам H2020 за пріоритет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ec.europa.eu/research/participants/portal/desktop/en/opportunities/h2020/ftags/clean_energy.html#c,topics=flags/s/CleanEnergy/1/1&amp;+callStatus/a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ME instrument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 Н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ec.europa.eu/research/participants/portal/desktop/en/funding/sme_particip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екомендації щодо формування проектних заявок: SME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lp.edu.ua/sites/default/files/news/2018/8386/attachments/eic-sme-instrument-annotated-template-a4sme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Пошук партнерів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https://www.up2eur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2" descr=""/>
          <p:cNvPicPr/>
          <p:nvPr/>
        </p:nvPicPr>
        <p:blipFill>
          <a:blip r:embed="rId1"/>
          <a:srcRect l="49923" t="14872" r="20973" b="19892"/>
          <a:stretch/>
        </p:blipFill>
        <p:spPr>
          <a:xfrm>
            <a:off x="146160" y="1765440"/>
            <a:ext cx="3786120" cy="477180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3" descr=""/>
          <p:cNvPicPr/>
          <p:nvPr/>
        </p:nvPicPr>
        <p:blipFill>
          <a:blip r:embed="rId2"/>
          <a:srcRect l="49881" t="14872" r="11062" b="16166"/>
          <a:stretch/>
        </p:blipFill>
        <p:spPr>
          <a:xfrm>
            <a:off x="3962520" y="1628640"/>
            <a:ext cx="50832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Прямоугольник 1"/>
          <p:cNvSpPr/>
          <p:nvPr/>
        </p:nvSpPr>
        <p:spPr>
          <a:xfrm>
            <a:off x="971640" y="907920"/>
            <a:ext cx="748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Horizon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</a:rPr>
              <a:t>2021-20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упна дослідницька та інноваційна рамкова про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ького Сою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https://ec.europa.eu/info/node/71880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Picture 2" descr="C:\Users\Oleg\Desktop\Horizon\HORIZON.jpg"/>
          <p:cNvPicPr/>
          <p:nvPr/>
        </p:nvPicPr>
        <p:blipFill>
          <a:blip r:embed="rId1"/>
          <a:stretch/>
        </p:blipFill>
        <p:spPr>
          <a:xfrm>
            <a:off x="684360" y="189000"/>
            <a:ext cx="2014560" cy="114624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664000" cy="1211040"/>
          </a:xfrm>
          <a:prstGeom prst="rect">
            <a:avLst/>
          </a:prstGeom>
          <a:ln w="0">
            <a:noFill/>
          </a:ln>
        </p:spPr>
      </p:pic>
      <p:sp>
        <p:nvSpPr>
          <p:cNvPr id="1300" name="Прямоугольник 5"/>
          <p:cNvSpPr/>
          <p:nvPr/>
        </p:nvSpPr>
        <p:spPr>
          <a:xfrm>
            <a:off x="250920" y="1484280"/>
            <a:ext cx="8713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нтральноукраїнський національний технічний універс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Національний контактний пункт Рамкової програми ЕС з досліджень та інновацій “Горизонт 202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а напрямком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“Малі та середні підприємства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ерівник НКП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Тетяна Кот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кандидат економічних наук, доц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E-mail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kntu.inintex@gmail.co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ncp-sme.kr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facebook.com/h2020.ncp.sme.kr.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тел.: (+38)050-684-03-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с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503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, Україна, м.Кропивниц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п. Університетський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Picture 8" descr="European Commission logo"/>
          <p:cNvPicPr/>
          <p:nvPr/>
        </p:nvPicPr>
        <p:blipFill>
          <a:blip r:embed="rId3"/>
          <a:stretch/>
        </p:blipFill>
        <p:spPr>
          <a:xfrm>
            <a:off x="3203640" y="115920"/>
            <a:ext cx="259236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krainian NCPs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MEs)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y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5" descr=""/>
          <p:cNvPicPr/>
          <p:nvPr/>
        </p:nvPicPr>
        <p:blipFill>
          <a:blip r:embed="rId1"/>
          <a:stretch/>
        </p:blipFill>
        <p:spPr>
          <a:xfrm>
            <a:off x="7424640" y="6059520"/>
            <a:ext cx="1719360" cy="7794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4" descr="map_ua"/>
          <p:cNvPicPr/>
          <p:nvPr/>
        </p:nvPicPr>
        <p:blipFill>
          <a:blip r:embed="rId2"/>
          <a:stretch/>
        </p:blipFill>
        <p:spPr>
          <a:xfrm>
            <a:off x="971640" y="1268280"/>
            <a:ext cx="7272360" cy="452916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2" descr="C:\Users\Oleg\Desktop\Horizon\HORIZON.jpg"/>
          <p:cNvPicPr/>
          <p:nvPr/>
        </p:nvPicPr>
        <p:blipFill>
          <a:blip r:embed="rId3"/>
          <a:stretch/>
        </p:blipFill>
        <p:spPr>
          <a:xfrm>
            <a:off x="7920" y="6033960"/>
            <a:ext cx="1324080" cy="801720"/>
          </a:xfrm>
          <a:prstGeom prst="rect">
            <a:avLst/>
          </a:prstGeom>
          <a:ln w="0">
            <a:noFill/>
          </a:ln>
        </p:spPr>
      </p:pic>
      <p:sp>
        <p:nvSpPr>
          <p:cNvPr id="1199" name="Line 53"/>
          <p:cNvSpPr/>
          <p:nvPr/>
        </p:nvSpPr>
        <p:spPr>
          <a:xfrm flipH="1">
            <a:off x="4427280" y="2852640"/>
            <a:ext cx="360360" cy="172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53"/>
          <p:cNvSpPr/>
          <p:nvPr/>
        </p:nvSpPr>
        <p:spPr>
          <a:xfrm>
            <a:off x="4788000" y="2852640"/>
            <a:ext cx="504720" cy="792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1"/>
          <p:cNvSpPr/>
          <p:nvPr/>
        </p:nvSpPr>
        <p:spPr>
          <a:xfrm>
            <a:off x="4417920" y="34624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Kropyvnytsk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29"/>
          <p:cNvSpPr/>
          <p:nvPr/>
        </p:nvSpPr>
        <p:spPr>
          <a:xfrm>
            <a:off x="4098600" y="458136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Verdana"/>
                <a:ea typeface="Arial"/>
              </a:rPr>
              <a:t>Od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7"/>
          <p:cNvSpPr/>
          <p:nvPr/>
        </p:nvSpPr>
        <p:spPr>
          <a:xfrm>
            <a:off x="4140360" y="242100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Verdana"/>
                <a:ea typeface="Arial"/>
              </a:rPr>
              <a:t>Ky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2" descr=""/>
          <p:cNvPicPr/>
          <p:nvPr/>
        </p:nvPicPr>
        <p:blipFill>
          <a:blip r:embed="rId4"/>
          <a:stretch/>
        </p:blipFill>
        <p:spPr>
          <a:xfrm>
            <a:off x="3670200" y="6008760"/>
            <a:ext cx="186228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Прямоугольник 3"/>
          <p:cNvSpPr/>
          <p:nvPr/>
        </p:nvSpPr>
        <p:spPr>
          <a:xfrm>
            <a:off x="1665360" y="56419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рямоугольник 4"/>
          <p:cNvSpPr/>
          <p:nvPr/>
        </p:nvSpPr>
        <p:spPr>
          <a:xfrm>
            <a:off x="825480" y="1904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ЩО ТАКЕ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ORIZON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рямоугольник 5"/>
          <p:cNvSpPr/>
          <p:nvPr/>
        </p:nvSpPr>
        <p:spPr>
          <a:xfrm>
            <a:off x="657360" y="836640"/>
            <a:ext cx="83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ограма Європейського Союзу з фінансуванн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науки та інновацій з загальним бюджетом близьк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80 млрд. євр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розрахована н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4 – 2020 рок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 поділена на три основні напр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3" descr="C:\Documents and Settings\Admin\Рабочий стол\Безымянный.bmp"/>
          <p:cNvPicPr/>
          <p:nvPr/>
        </p:nvPicPr>
        <p:blipFill>
          <a:blip r:embed="rId1"/>
          <a:stretch/>
        </p:blipFill>
        <p:spPr>
          <a:xfrm>
            <a:off x="657360" y="2052720"/>
            <a:ext cx="8137440" cy="447984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4160" y="267840"/>
            <a:ext cx="8548560" cy="461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ME Instrument 2018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Прямая соединительная линия 4"/>
          <p:cNvSpPr/>
          <p:nvPr/>
        </p:nvSpPr>
        <p:spPr>
          <a:xfrm>
            <a:off x="4532400" y="3389400"/>
            <a:ext cx="7920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>
              <a:lnSpc>
                <a:spcPct val="90000"/>
              </a:lnSpc>
              <a:spcAft>
                <a:spcPts val="213"/>
              </a:spcAft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Rectangle 20" descr=""/>
          <p:cNvPicPr/>
          <p:nvPr/>
        </p:nvPicPr>
        <p:blipFill>
          <a:blip r:embed="rId1"/>
          <a:stretch/>
        </p:blipFill>
        <p:spPr>
          <a:xfrm>
            <a:off x="249120" y="858960"/>
            <a:ext cx="8748720" cy="199368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6" descr=""/>
          <p:cNvPicPr/>
          <p:nvPr/>
        </p:nvPicPr>
        <p:blipFill>
          <a:blip r:embed="rId2"/>
          <a:stretch/>
        </p:blipFill>
        <p:spPr>
          <a:xfrm>
            <a:off x="684360" y="3005280"/>
            <a:ext cx="8262720" cy="240336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9" descr=""/>
          <p:cNvPicPr/>
          <p:nvPr/>
        </p:nvPicPr>
        <p:blipFill>
          <a:blip r:embed="rId3"/>
          <a:stretch/>
        </p:blipFill>
        <p:spPr>
          <a:xfrm>
            <a:off x="684360" y="5618160"/>
            <a:ext cx="8454960" cy="600120"/>
          </a:xfrm>
          <a:prstGeom prst="rect">
            <a:avLst/>
          </a:prstGeom>
          <a:ln w="0">
            <a:noFill/>
          </a:ln>
        </p:spPr>
      </p:pic>
      <p:sp>
        <p:nvSpPr>
          <p:cNvPr id="1214" name="Rectangle 17"/>
          <p:cNvSpPr/>
          <p:nvPr/>
        </p:nvSpPr>
        <p:spPr>
          <a:xfrm>
            <a:off x="90000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10"/>
          <p:cNvSpPr/>
          <p:nvPr/>
        </p:nvSpPr>
        <p:spPr>
          <a:xfrm>
            <a:off x="1403280" y="40053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нцепці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оціль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ці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Прямоугольник 11"/>
          <p:cNvSpPr/>
          <p:nvPr/>
        </p:nvSpPr>
        <p:spPr>
          <a:xfrm>
            <a:off x="3778200" y="371628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монстр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нков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тенціа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слідження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зро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Прямоугольник 12"/>
          <p:cNvSpPr/>
          <p:nvPr/>
        </p:nvSpPr>
        <p:spPr>
          <a:xfrm>
            <a:off x="6643800" y="381636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акупі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омерціалі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Прямоугольник 14"/>
          <p:cNvSpPr/>
          <p:nvPr/>
        </p:nvSpPr>
        <p:spPr>
          <a:xfrm>
            <a:off x="6232680" y="4861080"/>
            <a:ext cx="2790720" cy="733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Інструмент МСП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як спосіб отримання фінансових коштів від Є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Прямоугольник 15"/>
          <p:cNvSpPr/>
          <p:nvPr/>
        </p:nvSpPr>
        <p:spPr>
          <a:xfrm>
            <a:off x="539640" y="5691240"/>
            <a:ext cx="84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Ідея             бізнес-коучинг і безкоштовні послуги                      Р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4920" y="200160"/>
            <a:ext cx="838188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значення МСП згідно дефініцій Європейської комісії </a:t>
            </a:r>
            <a:br>
              <a:rPr sz="2400"/>
            </a:b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 categor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1" name="Object 4"/>
          <p:cNvGraphicFramePr/>
          <p:nvPr/>
        </p:nvGraphicFramePr>
        <p:xfrm>
          <a:off x="250920" y="2133720"/>
          <a:ext cx="10866240" cy="38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1086624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3" name=""/>
          <p:cNvGraphicFramePr/>
          <p:nvPr/>
        </p:nvGraphicFramePr>
        <p:xfrm>
          <a:off x="395280" y="981000"/>
          <a:ext cx="8496360" cy="5300640"/>
        </p:xfrm>
        <a:graphic>
          <a:graphicData uri="http://schemas.openxmlformats.org/drawingml/2006/table">
            <a:tbl>
              <a:tblPr/>
              <a:tblGrid>
                <a:gridCol w="1440000"/>
                <a:gridCol w="2243160"/>
                <a:gridCol w="2406600"/>
                <a:gridCol w="24066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Arial"/>
                        </a:rPr>
                        <a:t>1 фа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Arial"/>
                        </a:rPr>
                        <a:t>2 фаз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Arial"/>
                        </a:rPr>
                        <a:t>3 фа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Техніко-економіч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обґрунт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Інноваційний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Комерціалізаці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М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Оцінка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технічно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здійсненност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та ринк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потенціал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 інновацій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проектних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і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Розробка, випробуванн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прото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, пілотні інновацій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процес, продукти та по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Отримати засоби підтрим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для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комерціал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інноваційних продуктів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Arial"/>
                        </a:rPr>
                        <a:t>Фінансування Є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50,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(70% від усього проект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0,5 - 2,5 млн.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(70% від усього проект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Нема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Тривалі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6 місяц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1-2 ро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МСП можуть отрима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підтримку вже під час Фази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Результа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Техніко-економіч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обґрунтування та бізнес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Arial Black"/>
                          <a:ea typeface="Arial"/>
                        </a:rPr>
                        <a:t>Технологія або продукт</a:t>
                      </a: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, які готові до комерціалізації 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розширення масштаб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Отриман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Arial"/>
                        </a:rPr>
                        <a:t>підтримка та коучінг</a:t>
                      </a: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доступ до ризиков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фінансування, а також ін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можливостей (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Трен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3 д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12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321716"/>
                          </a:solidFill>
                          <a:latin typeface="Arial Black"/>
                          <a:ea typeface="Arial"/>
                        </a:rPr>
                        <a:t>нема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4" name="Rectangle 322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504d"/>
                </a:solidFill>
                <a:uFillTx/>
                <a:latin typeface="Times New Roman"/>
              </a:rPr>
              <a:t>ФАЗИ ІНСТРУМЕНТУ ФІНАНСУВАННЯ М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Прямоугольник 6"/>
          <p:cNvSpPr/>
          <p:nvPr/>
        </p:nvSpPr>
        <p:spPr>
          <a:xfrm>
            <a:off x="324000" y="189000"/>
            <a:ext cx="8480160" cy="459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mic"/>
              </a:rPr>
              <a:t>ВИ МОЖЕТЕ ПОДАТИ, якщ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7"/>
          <p:cNvSpPr/>
          <p:nvPr/>
        </p:nvSpPr>
        <p:spPr>
          <a:xfrm>
            <a:off x="3597120" y="355284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івні технологічної готовност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8"/>
          <p:cNvSpPr/>
          <p:nvPr/>
        </p:nvSpPr>
        <p:spPr>
          <a:xfrm>
            <a:off x="324000" y="4724280"/>
            <a:ext cx="862308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          2             3            4             5              6              7              8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Rectangle 10"/>
          <p:cNvGrpSpPr/>
          <p:nvPr/>
        </p:nvGrpSpPr>
        <p:grpSpPr>
          <a:xfrm>
            <a:off x="665280" y="4065480"/>
            <a:ext cx="1461960" cy="567000"/>
            <a:chOff x="665280" y="4065480"/>
            <a:chExt cx="1461960" cy="567000"/>
          </a:xfrm>
        </p:grpSpPr>
        <p:pic>
          <p:nvPicPr>
            <p:cNvPr id="1229" name="Rectangle 10" descr=""/>
            <p:cNvPicPr/>
            <p:nvPr/>
          </p:nvPicPr>
          <p:blipFill>
            <a:blip r:embed="rId1"/>
            <a:stretch/>
          </p:blipFill>
          <p:spPr>
            <a:xfrm>
              <a:off x="665280" y="4065480"/>
              <a:ext cx="14619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"/>
            <p:cNvSpPr/>
            <p:nvPr/>
          </p:nvSpPr>
          <p:spPr>
            <a:xfrm>
              <a:off x="727200" y="4103640"/>
              <a:ext cx="1349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2.Формув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технолог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Rectangle 12"/>
          <p:cNvGrpSpPr/>
          <p:nvPr/>
        </p:nvGrpSpPr>
        <p:grpSpPr>
          <a:xfrm>
            <a:off x="2206800" y="3822840"/>
            <a:ext cx="2352600" cy="755640"/>
            <a:chOff x="2206800" y="3822840"/>
            <a:chExt cx="2352600" cy="755640"/>
          </a:xfrm>
        </p:grpSpPr>
        <p:pic>
          <p:nvPicPr>
            <p:cNvPr id="1232" name="Rectangle 12" descr=""/>
            <p:cNvPicPr/>
            <p:nvPr/>
          </p:nvPicPr>
          <p:blipFill>
            <a:blip r:embed="rId2"/>
            <a:stretch/>
          </p:blipFill>
          <p:spPr>
            <a:xfrm>
              <a:off x="2206800" y="3822840"/>
              <a:ext cx="23526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>
              <a:off x="2268360" y="3860640"/>
              <a:ext cx="223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4. Обгрунтування/Валідація: прототип малого масштабу/у лаборатор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Rectangle 14"/>
          <p:cNvGrpSpPr/>
          <p:nvPr/>
        </p:nvGrpSpPr>
        <p:grpSpPr>
          <a:xfrm>
            <a:off x="4498920" y="4114800"/>
            <a:ext cx="2346480" cy="573120"/>
            <a:chOff x="4498920" y="4114800"/>
            <a:chExt cx="2346480" cy="573120"/>
          </a:xfrm>
        </p:grpSpPr>
        <p:pic>
          <p:nvPicPr>
            <p:cNvPr id="1235" name="Rectangle 14" descr=""/>
            <p:cNvPicPr/>
            <p:nvPr/>
          </p:nvPicPr>
          <p:blipFill>
            <a:blip r:embed="rId3"/>
            <a:stretch/>
          </p:blipFill>
          <p:spPr>
            <a:xfrm>
              <a:off x="4498920" y="4114800"/>
              <a:ext cx="23464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"/>
            <p:cNvSpPr/>
            <p:nvPr/>
          </p:nvSpPr>
          <p:spPr>
            <a:xfrm>
              <a:off x="4560840" y="4154400"/>
              <a:ext cx="223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6. Демонстраційний зразок 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відповідному середовищ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Rectangle 16"/>
          <p:cNvGrpSpPr/>
          <p:nvPr/>
        </p:nvGrpSpPr>
        <p:grpSpPr>
          <a:xfrm>
            <a:off x="6778800" y="3803760"/>
            <a:ext cx="1914480" cy="755640"/>
            <a:chOff x="6778800" y="3803760"/>
            <a:chExt cx="1914480" cy="755640"/>
          </a:xfrm>
        </p:grpSpPr>
        <p:pic>
          <p:nvPicPr>
            <p:cNvPr id="1238" name="Rectangle 16" descr=""/>
            <p:cNvPicPr/>
            <p:nvPr/>
          </p:nvPicPr>
          <p:blipFill>
            <a:blip r:embed="rId4"/>
            <a:stretch/>
          </p:blipFill>
          <p:spPr>
            <a:xfrm>
              <a:off x="6778800" y="3803760"/>
              <a:ext cx="19144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6840360" y="3841920"/>
              <a:ext cx="1798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8. Система закінчена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ібрана та відповідно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як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AutoShape 17"/>
          <p:cNvSpPr/>
          <p:nvPr/>
        </p:nvSpPr>
        <p:spPr>
          <a:xfrm>
            <a:off x="5867280" y="573408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8"/>
          <p:cNvSpPr/>
          <p:nvPr/>
        </p:nvSpPr>
        <p:spPr>
          <a:xfrm>
            <a:off x="324000" y="4653000"/>
            <a:ext cx="8820000" cy="503280"/>
          </a:xfrm>
          <a:prstGeom prst="rightArrow">
            <a:avLst>
              <a:gd name="adj1" fmla="val 50000"/>
              <a:gd name="adj2" fmla="val 4381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Rectangle 19"/>
          <p:cNvGrpSpPr/>
          <p:nvPr/>
        </p:nvGrpSpPr>
        <p:grpSpPr>
          <a:xfrm>
            <a:off x="182520" y="5157720"/>
            <a:ext cx="1195560" cy="566640"/>
            <a:chOff x="182520" y="5157720"/>
            <a:chExt cx="1195560" cy="566640"/>
          </a:xfrm>
        </p:grpSpPr>
        <p:pic>
          <p:nvPicPr>
            <p:cNvPr id="1243" name="Rectangle 19" descr=""/>
            <p:cNvPicPr/>
            <p:nvPr/>
          </p:nvPicPr>
          <p:blipFill>
            <a:blip r:embed="rId5"/>
            <a:stretch/>
          </p:blipFill>
          <p:spPr>
            <a:xfrm>
              <a:off x="182520" y="5157720"/>
              <a:ext cx="11955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41200" y="519444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1.Базо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дослідж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Rectangle 20"/>
          <p:cNvGrpSpPr/>
          <p:nvPr/>
        </p:nvGrpSpPr>
        <p:grpSpPr>
          <a:xfrm>
            <a:off x="1700280" y="5340240"/>
            <a:ext cx="1847880" cy="567000"/>
            <a:chOff x="1700280" y="5340240"/>
            <a:chExt cx="1847880" cy="567000"/>
          </a:xfrm>
        </p:grpSpPr>
        <p:pic>
          <p:nvPicPr>
            <p:cNvPr id="1246" name="Rectangle 20" descr=""/>
            <p:cNvPicPr/>
            <p:nvPr/>
          </p:nvPicPr>
          <p:blipFill>
            <a:blip r:embed="rId6"/>
            <a:stretch/>
          </p:blipFill>
          <p:spPr>
            <a:xfrm>
              <a:off x="1700280" y="5340240"/>
              <a:ext cx="18478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1763640" y="5373720"/>
              <a:ext cx="172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3. Експериментальні докази концепт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Rectangle 21"/>
          <p:cNvGrpSpPr/>
          <p:nvPr/>
        </p:nvGrpSpPr>
        <p:grpSpPr>
          <a:xfrm>
            <a:off x="3432240" y="5340240"/>
            <a:ext cx="1968480" cy="938160"/>
            <a:chOff x="3432240" y="5340240"/>
            <a:chExt cx="1968480" cy="938160"/>
          </a:xfrm>
        </p:grpSpPr>
        <p:pic>
          <p:nvPicPr>
            <p:cNvPr id="1249" name="Rectangle 21" descr=""/>
            <p:cNvPicPr/>
            <p:nvPr/>
          </p:nvPicPr>
          <p:blipFill>
            <a:blip r:embed="rId7"/>
            <a:stretch/>
          </p:blipFill>
          <p:spPr>
            <a:xfrm>
              <a:off x="3432240" y="5340240"/>
              <a:ext cx="1968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3492360" y="5373720"/>
              <a:ext cx="185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5. Валідація: прототи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великого масштабу/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реальном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середовищ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Rectangle 22"/>
          <p:cNvGrpSpPr/>
          <p:nvPr/>
        </p:nvGrpSpPr>
        <p:grpSpPr>
          <a:xfrm>
            <a:off x="5589720" y="5340240"/>
            <a:ext cx="1841400" cy="1121040"/>
            <a:chOff x="5589720" y="5340240"/>
            <a:chExt cx="1841400" cy="1121040"/>
          </a:xfrm>
        </p:grpSpPr>
        <p:pic>
          <p:nvPicPr>
            <p:cNvPr id="1252" name="Rectangle 22" descr=""/>
            <p:cNvPicPr/>
            <p:nvPr/>
          </p:nvPicPr>
          <p:blipFill>
            <a:blip r:embed="rId8"/>
            <a:stretch/>
          </p:blipFill>
          <p:spPr>
            <a:xfrm>
              <a:off x="5589720" y="5340240"/>
              <a:ext cx="184140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5651640" y="5373720"/>
              <a:ext cx="17269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7. Демонстрацій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разок/прототи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системи 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пераційном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середовищ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Rectangle 23"/>
          <p:cNvGrpSpPr/>
          <p:nvPr/>
        </p:nvGrpSpPr>
        <p:grpSpPr>
          <a:xfrm>
            <a:off x="7534440" y="5340240"/>
            <a:ext cx="1469880" cy="755640"/>
            <a:chOff x="7534440" y="5340240"/>
            <a:chExt cx="1469880" cy="755640"/>
          </a:xfrm>
        </p:grpSpPr>
        <p:pic>
          <p:nvPicPr>
            <p:cNvPr id="1255" name="Rectangle 23" descr=""/>
            <p:cNvPicPr/>
            <p:nvPr/>
          </p:nvPicPr>
          <p:blipFill>
            <a:blip r:embed="rId9"/>
            <a:stretch/>
          </p:blipFill>
          <p:spPr>
            <a:xfrm>
              <a:off x="7534440" y="5340240"/>
              <a:ext cx="1469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7596360" y="5373720"/>
              <a:ext cx="135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9.Пов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ерцій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стосув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Rectangle 6"/>
          <p:cNvSpPr/>
          <p:nvPr/>
        </p:nvSpPr>
        <p:spPr>
          <a:xfrm>
            <a:off x="395280" y="981000"/>
            <a:ext cx="8408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   Ваше МСП має інноваційний, новаторський продукт та  або рішення з високим потенціалом зростання і має  чіткі європейські амбі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  Ваша інноваційна ідея є відкритою і передовою та відповідає критерію «інноваційної ідеї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.   Ви можете подати на Фазу 2, якщо Ваш продукт або рішення знаходиться на 6 рівні технологічної готовності або ви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Виклики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ME Instrument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 2018-2020</a:t>
            </a:r>
            <a:br>
              <a:rPr sz="8000"/>
            </a:b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http://ec.europa.eu/research/participants/portal/desktop/en/opportunities/h2020/ftags/sme_instrument.html#c,topics=flags/s/SME/1/1&amp;+callIdentifier/des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9" name=""/>
          <p:cNvGraphicFramePr/>
          <p:nvPr/>
        </p:nvGraphicFramePr>
        <p:xfrm>
          <a:off x="785880" y="1214280"/>
          <a:ext cx="8001000" cy="5154840"/>
        </p:xfrm>
        <a:graphic>
          <a:graphicData uri="http://schemas.openxmlformats.org/drawingml/2006/table">
            <a:tbl>
              <a:tblPr/>
              <a:tblGrid>
                <a:gridCol w="1722240"/>
                <a:gridCol w="2092320"/>
                <a:gridCol w="2094120"/>
                <a:gridCol w="2092320"/>
              </a:tblGrid>
              <a:tr h="500400">
                <a:tc>
                  <a:txBody>
                    <a:bodyPr lIns="5400" rIns="5400" tIns="5400" bIns="5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Ета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5400" rIns="5400" tIns="5400" bIns="5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5400" rIns="5400" tIns="5400" bIns="5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5400" rIns="5400" tIns="5400" bIns="5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04040"/>
                      </a:solidFill>
                    </a:lnB>
                    <a:noFill/>
                  </a:tcPr>
                </a:tc>
              </a:tr>
              <a:tr h="129996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за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0404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 лютого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 травня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05 вересня 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07 листопада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0404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3 лютого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07 травня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05 вересня 2019 года – останній строк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0404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0404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448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з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C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0 січня 2018 р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4 березня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23 травня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0 жовтня 2018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09 січня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3 квітня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5 червня 2019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09 жовтня 2019 року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08 січня 2020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8 березня 2020 года 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19 травня 2020 года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07 жовтня 2020  - тільки гранти або змішане фінан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</a:tr>
            </a:tbl>
          </a:graphicData>
        </a:graphic>
      </p:graphicFrame>
      <p:sp>
        <p:nvSpPr>
          <p:cNvPr id="1260" name="Rectangle 1"/>
          <p:cNvSpPr/>
          <p:nvPr/>
        </p:nvSpPr>
        <p:spPr>
          <a:xfrm>
            <a:off x="4458600" y="8244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6T14:27:22Z</dcterms:created>
  <dc:creator>Пользователь Windows</dc:creator>
  <dc:description/>
  <dc:language>en-US</dc:language>
  <cp:lastModifiedBy>administrator</cp:lastModifiedBy>
  <cp:lastPrinted>2018-11-05T22:19:53Z</cp:lastPrinted>
  <dcterms:modified xsi:type="dcterms:W3CDTF">2019-06-05T05:32:42Z</dcterms:modified>
  <cp:revision>78</cp:revision>
  <dc:subject/>
  <dc:title>Презентация PowerPoint</dc:title>
</cp:coreProperties>
</file>